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6FCA-930F-44B4-90E5-0227B297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806E-98B2-46CC-AC48-8204E8CF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60A9-2D11-4852-8926-868411B8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B858-F655-43AC-B78F-DBA1ACA6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61A5-FFB0-43B9-AE2C-B9C0EA79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52B5-DC68-43E1-9467-2F2B45A3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EE31-94B1-406A-91DF-21A9895C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D7C3-A0E5-4401-BBA7-07B878CA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DE61-1384-442C-BBE0-05D03238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5FB3-3256-44FD-A0F5-0A58045B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FFF0-5C78-4628-82B2-22FF6C04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02B3-8514-4835-BD68-5BF90266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E4EF-7B2C-4BA5-B3C1-3563932B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C9CD-BD84-462E-94D7-FBF26180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B31C-42E1-49F6-845E-CB045D64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1463-0B30-4C86-AF34-2F8A1CD3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8B5D-8002-40D9-8AD1-1DCA823A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A4678-1AED-4728-A80C-87026FB6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485C0B-AD46-45E2-9EE4-22690C93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87E361-1163-4C0B-B908-4CB8BAF9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1B6695-1597-4AD7-A7EF-5451EA11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BBBF07-F7CD-4165-AE07-27FC41D5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9A9F-5C47-47BD-92E7-5E79DE8D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1B2E4-2149-4FC9-8D3F-B912DEBD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70A54-F769-410C-95E2-97DE48C2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813A05-BA73-453D-A1C2-4E1A2C42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78D3F7-CF6D-4407-AA35-C6A5BE56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43BE33-EBCB-4044-963A-1692A096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03E2C9-0C0A-4211-84C4-4D454AF4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9FE27F-3DA6-4808-A6DF-2D94D342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7C7586-060A-4A0F-9012-4963DD4E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5FD74A-8870-4E2D-913F-A9D09A4A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FF89A3-5F7B-42D9-BD47-62339DDD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C182-6EC3-4873-A88F-E05BC8D1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B88400-0946-41AC-8DE8-53AC82A0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34F5BE-5D5B-4C8A-BF16-36D0EC76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ED605A-2C5D-426E-AA46-913A0194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C9ADFF-02A1-4259-A8C3-BE5B5755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5C21F1-3526-4156-A599-3B0407E4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9E53D0-4A2A-4328-B6E1-AF6AEFC9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6A96D9-81C0-4B96-9C0C-C153A8A7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733926-A951-4748-9C91-80CC2FFE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8EFB6A-1A28-4760-BF61-01A64969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D931FF-8939-4556-8CF2-AEDF7184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8E26-90B7-4854-9C22-B82DA331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AED797-0C04-4574-BB4C-96551646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BA3F24-D069-4FE2-9874-CB0DC73A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AB86E7-2218-44F8-903E-68266D03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22E8FC-5B57-40CE-9013-E83A211E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117A60-B59C-4CF2-A870-D31E1B0F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BD562D-640B-4DB2-9457-415AA11C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4B40B5-44E4-452B-8A35-99340CC8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01A0F9-4435-4F11-8C1A-0C6A8B3D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719B76-B97F-4111-BAA3-FD9D4F34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BA1FA4-9366-4A1B-9093-26C0E5CD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11FE-83E4-432E-9DCC-85A001D0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320AD9-D404-4FEE-98BD-848F36DD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F7FEF-E394-4FDB-B48F-A0BD8FC5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86BBF-446D-4AC5-988B-C7703D31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C1823-526A-42B4-8021-CE768423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9451C-6B80-47BD-AFB4-A9093D1E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C0810-E7BD-4A38-A836-D9B994B1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33809-621A-416B-ABEC-4CFCB345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15B4D-8A41-4723-AA09-E3122C0D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0A6E9-B852-4D53-AF43-10CACF3A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D8FF5-B200-46EA-9E08-4B7677C6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630E-995C-4C14-9EE7-65C96610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EF7EB-D352-4F75-904C-8DE341D7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FF460-BB94-42E0-A2B5-69266E0F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3FEE6-FA4F-4B4E-805D-04F73179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9A834C-5736-4624-864F-9E71A90C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AA199D-1EEB-4200-9EF5-4FFC5BA9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20F461-C502-44A4-9C2B-B917E127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E6D0DE-105B-4833-9AC8-51D01810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78B01C-83A1-41D3-86EA-00238B69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BB60CA-ECB2-400C-9556-F538429E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355557-6266-44DF-8334-216CC1D0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AB1A-293A-4D88-B48D-B7F1B92A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092AE6-31E5-48B0-BB41-BDE6ECEC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D96874-D602-4ABF-9A18-982F37EA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8CC8CD-33D2-44C9-8ADE-E7E457D6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40D1B8-B7AB-4F81-A0D4-24BB67E6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2A8560-98DD-4AD5-A8D7-9D2DDF3E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CE6EC-8E5B-4FFF-842D-7434EA1E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E4E36-DB30-49F9-9C45-5FAE6248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49326-ED8E-4294-8BE4-79332FED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DE5DF-DB2D-4680-BDFE-1040AE67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90FBF-3D5D-45B7-9C9F-B90D52C2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C554-0D59-4E3B-878B-A547FF74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E8A1B-EC3F-404C-A79D-36B88C9B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031AA-8872-44F6-B7EA-377E9D59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62CDF-2E17-4304-A8F8-0E401FEF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2B94C-160D-4D88-829F-3E182F4B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E6679-446F-4228-B5D8-949BA8A9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6D10C-E024-47DB-B5EB-E5A9FC51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C32ED-13F0-490C-A65E-939BDEF3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4CAF-9F6A-4AA7-9CAA-134C5C965A63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1789-2E90-4B52-AE1D-FB40782B9A1D}" type="slidenum">
              <a:rPr b="1" lang="ru-RU" sz="1400" spc="-1" strike="noStrike">
                <a:solidFill>
                  <a:srgbClr val="eeece1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1AD2-8DF0-4D97-B549-7D73A6B75844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BD4A-26D1-4096-9FF3-E54FFC9550FB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7E70-E687-4BA0-BE8D-82EFBAA0D6E6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836F-1412-4B21-B486-512E2542FC68}" type="slidenum">
              <a:rPr b="1" lang="ru-RU" sz="14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931F-30CE-4C24-A7DC-67CF9512862A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14F1-5373-4BF2-8B81-06A025D40972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zalia.ucoz.ru/plakat_2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57240" y="4038480"/>
            <a:ext cx="69818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МОДЕЛИ ИНТЕГРАЦИИ ДЕТЕЙ С ОГРАНИЧЕННЫМИ ВОЗМОЖНОСТЯМИ ЗДОРОВЬЯ</a:t>
            </a:r>
            <a:endParaRPr b="0" lang="en-US" sz="36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течественная концепция интегрированного обучения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2" name="Picture 2" descr="http://azalia.ucoz.ru/plakat_2s.jpg">
            <a:hlinkClick r:id="rId1"/>
          </p:cNvPr>
          <p:cNvPicPr/>
          <p:nvPr/>
        </p:nvPicPr>
        <p:blipFill>
          <a:blip r:embed="rId2"/>
          <a:srcRect l="0" t="0" r="0" b="11654"/>
          <a:stretch/>
        </p:blipFill>
        <p:spPr>
          <a:xfrm>
            <a:off x="500040" y="214200"/>
            <a:ext cx="5076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ети с ОВЗ изучают такие предметы, как изобразительное искусство, ОБЖ, физкультура, музыка, пение и трудовое обучение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в условиях общеобразовательных классов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а предметы по программам для С(К)ОУ соответствующих видов – в условиях классов коррекционно-педагогической поддержки. Обычно это такие предметы, как математика, русский язык или письмо и развитие речи, чтение или чтение и развитие речи, трудовое обучение, ритми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лого-медико-педагогическое сопровождение поддерживает индивидуальные учебно-коррекционные маршруты и изучение программ для учеников с ОВЗ в целях обеспечения психологической, педагогической, медицинской, социально-педагогической и логопедической помощи; обеспечивает психологический комфорт и контроль за реализацией досугово-реабилитацион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ной частью социально-образовательной интеграции является развернутая система дополнительного образования. Его направления могут быть достаточно различны, но необходимый минимум эт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зкультурно-спортивные сек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удожественно-эстетические студии и круж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нятия декоративно-прикладным искусство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учно-техническое творче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13840" y="228600"/>
            <a:ext cx="8929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собенности организации интегрированного обучения в начальных классах общеобразовательной школы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42960" y="15717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авление и отбор учебных планов, образовательных программ и учебно-методических и дидактических комплекс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школьном учебном план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пределен состав учебных предметов в рамках образовательных областей и образовательных компонентов базисного учебного плана, а значит, должна быть отражена специфика образовательной деятельности школы как учреждения, работающего в рамках интегрированного обучения. Методическое обеспечение такого обучения учащихся с психофизическими нарушениями и детей с нормальным развитием объединяет программные, учебно-методические 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идактические материалы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для общеобразовательной школы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к и для специальног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коррекционного) образовательного учреждени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редством которых выстраиваетс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ебно-воспитательный процесс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8" descr="http://im4-tub-ru.yandex.net/i?id=53481445-56-72"/>
          <p:cNvPicPr/>
          <p:nvPr/>
        </p:nvPicPr>
        <p:blipFill>
          <a:blip r:embed="rId1"/>
          <a:stretch/>
        </p:blipFill>
        <p:spPr>
          <a:xfrm>
            <a:off x="5857920" y="385776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рганизации учебно-воспитательного процесса главная трудность для учителя состоит в том, чтобы соотнести индивидуальные особенности ребенка с проблемами в развитии, интегрированного в среду нормально развивающихся сверстников, с выполнением образовательного стандарта, заложенного в специальной коррекционной образовательной программе для учреждений VII или VIII ви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ыт показывает, что в обучении детей с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держкой психического развит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 начальных этапах преобладает работа учителя-дефектолога в условиях класса коррекционно-педагогической поддержки, но постепенно участие учителя-дефектолога сокращается, и дети в большем объеме получают знания на уроках в условиях общеобразовательного класс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бучении же детей с нарушением интеллекта ситуация обратная. На начальных этапах обучения умственно отсталые дети большую часть учебного времени проводят со своими нормально развивающимися сверстниками, но по мере адаптации детей к классу и усложнения образовательной программы увеличивается количество часов обучения в классе коррекционно-педагогической поддержки под руководством учителя-дефектоло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Выбор программ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– основа обучения. Для обучения учащихся с особенностями в развитии 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в начальной школе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за основу берутся:</a:t>
            </a:r>
            <a:br>
              <a:rPr sz="24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иповые государственные программы для общеобразовательных учрежден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1–4 кл. (Авторские программы Л.В.Занкова, В.В.Истоминой, Д.Б.Эльконина, В.В.Давыдова, Н.Я.Виленкина – Л.Г.Петерсон и типовые – авторы В.Г.Горецкий, В.А.Кирюшкин, Т.Г.Рамзаева, Л.Ф.Климанова, Н.Н.Светловская, О.В.Джежелей, М.И Моро, М.А.Бантова, Г.В.Бельтюкова, С.И.Волкова, С.В.Степанов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граммы специальных (коррекционных) образовательных учреждений 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VI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ида для детей с задержкой психического развит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Е.А.Екжанова, Г.М.Капустина, Ю.А.Костенкова, Т.В.Кузмичева, Е.Б.Новикова, Е.Н.Морсакова, Р.Д.Тригер, Н.А.Цыпина, С.Г.Шевченко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граммы специальных (коррекционных) образовательных учреждений 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VII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вида для детей с нарушением интеллек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Авторы:В.В.Воронкова, И.В.Коломыткина, Н.М.Барская, С.Ю.Ильина, З.Н. Смирнова, Г.Н.Гусева, А.К.Аксенова, Э.В.Якубовская, А.А.Хилько, В.В.Эк, М.Н.Перова и др.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Calibri"/>
              </a:rPr>
              <a:t>Интегрированное календарно-тематическое планирование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85480" y="1599840"/>
            <a:ext cx="86439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а основе обозначенных программ, учебников и учебных пособий составляется </a:t>
            </a: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интегрированное календарно-тематическое планирование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по учебным дисциплинам. В составлении календарно-тематического планирования принимают участие учителя начальных классов, учителя-дефектологи. Это объясняется тем, что количество часов по учебным дисциплинам, содержание тем образовательной программы следует распределить для изучения в общеобразовательном классе и в классе коррекционно-педагогической поддержки. Программы образовательных учреждений изучаются учителями и сводятся совместно со специалистами коррекционного образования таким образом в календарно-тематическое планирование, чтобы на одном уроке дети разных уровней развития изучали одну и ту же тему, но информация, получаемая учениками по теме, должна быть адекватна его образовательной программе. Контрольные и творческие работы разрабатываются в соответствии с уровнем развития учащихся и оцениваются согласно требованиям учебной программ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f497d"/>
                </a:solidFill>
                <a:latin typeface="Calibri"/>
              </a:rPr>
              <a:t>Поурочное планирование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14200" y="1600200"/>
            <a:ext cx="8715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урочное планирова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азируется на учебном плане образовательного учреждения, в котором выделяются инвариантная и вариативная части. Инвариантная часть учебного плана содержит в себе федеральный и национально-региональный компоненты. Федеральный компонент обеспечивает удовлетворение образовательных потребностей в рамках государственного стандарта, гарантирует овладение выпускниками знаниями, умениями, навыками, обеспечивающими возможность продолжения образования. Национально-региональный компонент обеспечивает включение в содержание образования вопросов, связанных со спецификой той или иной области страны (географические, социальные, производственные, экономические, экологические, этнические, культурные и т.п.), которые органично входят в соответствующие образовательные области в рамках часов учебных предм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8786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пецифика составления школьных учебных планов для детей с задержкой психического развития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85480" y="1599840"/>
            <a:ext cx="864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ариативная часть учебного плана обеспечена учебно-методическим комплексом в части дополнительных часов, предоставленных на предметы, которые усиливают, расширяют и углубляют знания учащихся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специфику составления школьных учебных планов для детей с задержкой психического развития, интегрированных в среду своих нормально развивающихся сверстников, на начальной ступени обуч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УЧЕБНЫЙ ПЛАН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на 2008–2009 учебный год для детей, обучающихся по программам для учреждений VII вида (1–4 классы)</a:t>
            </a:r>
            <a:br>
              <a:rPr sz="40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57120" y="1905120"/>
          <a:ext cx="8572680" cy="466704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393840"/>
                <a:gridCol w="392040"/>
                <a:gridCol w="414360"/>
                <a:gridCol w="414360"/>
                <a:gridCol w="393480"/>
                <a:gridCol w="393840"/>
                <a:gridCol w="428400"/>
                <a:gridCol w="428760"/>
                <a:gridCol w="471600"/>
                <a:gridCol w="473040"/>
                <a:gridCol w="471600"/>
                <a:gridCol w="411120"/>
              </a:tblGrid>
              <a:tr h="80460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часов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-образовательный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 коррекц.-пед. поддерж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560">
                <a:tc gridSpan="14"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вариант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400">
                <a:tc rowSpan="9"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образова-тельные к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родоведе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обр. иск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 и п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вая подготов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вое 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571680" y="1643040"/>
          <a:ext cx="8143560" cy="4429080"/>
        </p:xfrm>
        <a:graphic>
          <a:graphicData uri="http://schemas.openxmlformats.org/drawingml/2006/table">
            <a:tbl>
              <a:tblPr/>
              <a:tblGrid>
                <a:gridCol w="1695240"/>
                <a:gridCol w="382680"/>
                <a:gridCol w="382680"/>
                <a:gridCol w="382320"/>
                <a:gridCol w="403200"/>
                <a:gridCol w="382680"/>
                <a:gridCol w="382680"/>
                <a:gridCol w="382680"/>
                <a:gridCol w="417240"/>
                <a:gridCol w="368280"/>
                <a:gridCol w="460440"/>
                <a:gridCol w="459000"/>
                <a:gridCol w="399960"/>
                <a:gridCol w="1644480"/>
              </a:tblGrid>
              <a:tr h="514440">
                <a:tc gridSpan="14"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тив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накомление с окружающ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т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а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едение в народ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356760"/>
            <a:ext cx="81532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течественная концепция интегрированного обучения строится на трех основных принципах: 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00040" y="17859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ранней диагностике и коррекции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обязательной коррекционной помощи каждому ребенку, интегрированному в общеобразовательное пространство вне зависимости от формы интеграции, которую предпочли родители ребенка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продуманном и обоснованном отборе детей для интегрированного обуч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4" descr="http://im7-tub-ru.yandex.net/i?id=19871399-44-72"/>
          <p:cNvPicPr/>
          <p:nvPr/>
        </p:nvPicPr>
        <p:blipFill>
          <a:blip r:embed="rId1"/>
          <a:stretch/>
        </p:blipFill>
        <p:spPr>
          <a:xfrm>
            <a:off x="6786720" y="5143680"/>
            <a:ext cx="21430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0" y="1714680"/>
          <a:ext cx="8786880" cy="4998960"/>
        </p:xfrm>
        <a:graphic>
          <a:graphicData uri="http://schemas.openxmlformats.org/drawingml/2006/table">
            <a:tbl>
              <a:tblPr/>
              <a:tblGrid>
                <a:gridCol w="1743120"/>
                <a:gridCol w="1863720"/>
                <a:gridCol w="412560"/>
                <a:gridCol w="411480"/>
                <a:gridCol w="412560"/>
                <a:gridCol w="434880"/>
                <a:gridCol w="412920"/>
                <a:gridCol w="412560"/>
                <a:gridCol w="412920"/>
                <a:gridCol w="449280"/>
                <a:gridCol w="398520"/>
                <a:gridCol w="495360"/>
                <a:gridCol w="495000"/>
                <a:gridCol w="432000"/>
              </a:tblGrid>
              <a:tr h="49500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. нагр. при 5-дневн. учеб.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. нагр. при 6-дневн. учеб.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видуальные и групповые коррекционны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89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речи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гопедические занятия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психомоторики и сенсорных процессов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пка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итерии эффективности интегрированного обучения</a:t>
            </a:r>
            <a:br>
              <a:rPr sz="2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285840" y="1949400"/>
            <a:ext cx="835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пешность овладения образовательной программой детьми с ОВ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сутствие пропусков занятий без уважительной причи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ожительная динамика психосоматического здоровья и снижение заболеваемости детей с ОВ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личие друзей у детей с ОВЗ среди детей группы и однокласс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тивность участия детей в системе дополнительного образо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ие родителей в сопровождении детей с ОВ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ие детей и подростков в коллективных видах деятельности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Задачи специального образования в отношении интеграции: 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определение системы показаний для осуществления интеграции ребенка с разным уровнем психофизического развития в общеобразовательные учрежде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разработка содержания и форм специализированной поддержки детей, интегрированных в общеобразовательные учрежде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разработка и апробация вариативных индивидуальных программ воспитания, обучения и развития учащихся с психофизическими нарушения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в общеобразовательных учреждения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10" descr="http://im8-tub-ru.yandex.net/i?id=316505157-60-72"/>
          <p:cNvPicPr/>
          <p:nvPr/>
        </p:nvPicPr>
        <p:blipFill>
          <a:blip r:embed="rId1"/>
          <a:stretch/>
        </p:blipFill>
        <p:spPr>
          <a:xfrm>
            <a:off x="7000920" y="492912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Идеи Л.С. Выготского о воспитании ребенка с нарушением развития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14200" y="1856880"/>
            <a:ext cx="8715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готский писал, что «при всех достоинствах наша специальная школа отличается тем основным недостатком, что она замыкает своего воспитанника – слепого, глухого, умственно отсталого ребенка – в узкий круг школьного коллектива, создает замкнутый мир, в котором все приспособлено к дефекту ребенка, все фокусирует его внимание на своем недостатке и не вводит его в настоящую жизн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ой из форм оптимального развития умственно отсталого ребенка, по мнению ученого, должен стать коллектив. Подчеркивая превалирующую роль коллектива в процессе развития и воспитания, автор выдвигает требование насыщения коллектива разными по степени интеллектуального недоразвития детьми. По мнению исследователя, в тех случаях, когда коллектив отсталых детей достаточно однороден, это наносит ущерб как нормальным, так и аномальным детям – лишает их возможности развит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356760"/>
            <a:ext cx="81532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Формы интегрированного обучения детей с отклонениями в развитии</a:t>
            </a:r>
            <a:br>
              <a:rPr sz="4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мбинирован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ученик с отклонениями в развитии способен обучаться в классе здоровых детей, получая при этом систематическую помощь со стороны учителя-дефектолога, логопеда, психолог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частич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обучающиеся с отклонениями в развитии не способны на равных условиях со здоровыми сверстниками овладевать образовательной программой; в этом случае часть дня они проводят в спецклассах, а часть дня – в обычных класса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ремен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дети, обучающиеся в специальных классах, и учащиеся обычных классов объединяются не реже двух раз в месяц для совместных прогулок, праздников, соревнований, отдельных мероприятий воспитательного знач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л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1–2 ребенка с отклонениями в развитии вливаются в обычные группы детского сада или классы (дети с ринолалией, слабовидящие или дети с кохлеарным имплантантом); эти дети по уровню психофизического, речевого развития более менее соответствуют возрастной норме и психологически готовы к совместному обучению со здоровыми сверстниками; коррекционную помощь они получают по месту обучения, или ее оказывают родители под контролем специалис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Этапы организации социально-образовательной интеграции: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раннего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дошкольного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школьного обуче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профессионально-трудовой адапт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4" descr="http://im5-tub-ru.yandex.net/i?id=7869440-41-72"/>
          <p:cNvPicPr/>
          <p:nvPr/>
        </p:nvPicPr>
        <p:blipFill>
          <a:blip r:embed="rId1"/>
          <a:stretch/>
        </p:blipFill>
        <p:spPr>
          <a:xfrm>
            <a:off x="5072040" y="4000680"/>
            <a:ext cx="34099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Этап дошкольного детства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95280" y="1600200"/>
            <a:ext cx="837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мя встраивания ребенка с ОВЗ в первую общественную образовательную систему – дошкольное обучение и воспитание. Требования к осуществлению интеграции на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этапе дошкольного детств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язательное наличие индивидуальной коррекционно-развивающей и образовательно-воспитательной программы для ребёнка с теми или иными ограничения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бходимость создания адекватной возможностям ребёнка охранительно-педагогической и предметно-развивающей сред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ичие специальной образовательной помощи, осуществляемой командой сотрудников при ведущей роли педагога-дефектолог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ёткое разделение функционала всех специалистов, вовлечённых в интегрированное дошкольное 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чение родителей навыкам стимулирующего общения с собственным ребёнк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о-педагогическое сопровождение нормально развивающихся дошкольников, вовлечённых в интегрированное обуч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f497d"/>
                </a:solidFill>
                <a:latin typeface="Calibri"/>
              </a:rPr>
              <a:t>Группы кратковременного пребывания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13840" y="1600200"/>
            <a:ext cx="8551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 из важных форм интегрированного обучени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 дошкольном возраст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группы кратковременного пребы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Поскольку в группы принимаются дети с различной структурой дефекта, при организации групповых занятий необходима одновременная, совместная работа 2–3 педагогов, осуществляющих обучение детей разным видам деятельности и обеспечивающих их сопровождение в процессе воспитания и обучения с учетом различий в тяжести имеющихся нарушений. Во время проведения одним из педагогов занятия по развитию той или иной деятельности, другие педагоги выполняют функцию педагогов сопровождения, тем самым помогая детям на занятии и одновременно обучая родителей навыкам взаимодействия с собственными детьми. Для этих целей возможно использование и родителей, прошедших квалифицированное обучение, и специально подготовленных тьюторов, которые соответствуют требованиям, предъявляемым к уровню их профессиональной и личностной готов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этом важно учитывать, что гибкое сочетание индивидуальных и групповых занятий позволяет ребёнку с ОВЗ выработать разные стратегии поведения в процессе общения и различных видах дет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f497d"/>
                </a:solidFill>
                <a:latin typeface="Calibri"/>
              </a:rPr>
              <a:t>Период школьного обучения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13840" y="1600200"/>
            <a:ext cx="8551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реализации социально-образовательной интеграции в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период школьного обучения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обходимо наличие следующих четырёх структурных компонентов [Резникова Е.В., 2007]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учение в условиях общеобразовательного класс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учение в условиях класса коррекционно-педагогической поддержк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истема психолого-медико-педагогического сопровождения всех обучающихся в учрежден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вёрнутая сеть услуг дополнительного образова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9:15:43Z</dcterms:created>
  <dc:creator>Руководитель отдела</dc:creator>
  <dc:description/>
  <dc:language>en-US</dc:language>
  <cp:lastModifiedBy>Галина</cp:lastModifiedBy>
  <dcterms:modified xsi:type="dcterms:W3CDTF">2021-09-14T08:04:44Z</dcterms:modified>
  <cp:revision>16</cp:revision>
  <dc:subject/>
  <dc:title>моделей интеграции детей с ограниченными возможностями здоровья</dc:title>
</cp:coreProperties>
</file>