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BD4-9902-4629-BE0F-AF7CADA7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069-8420-4CFB-8FDE-65992D52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37D-3055-46D9-ABB1-2F20433E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F22-19A6-48F6-9880-095D52E9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7347-FF70-403D-BD8E-5F10A293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71DE-C8B9-4A89-82C2-3977BD8F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17DB-306E-4F74-BFE4-92F34610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70C7-3D5F-4296-8330-D4358198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0B96-548A-4925-9B2B-C658708B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4E72-9452-427A-A232-1DB0CA68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5BDD-2CC3-4BB2-B2A8-63E5353F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CB32-4726-4B77-8D4B-E71B7622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ECB8-1729-412B-B4A7-F39BA124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B54F-9790-4ECC-A0BA-A0C3A507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75F5-6CE5-4570-A658-E31FD359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0AC6-CB34-43A9-A7AC-D3D72A28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9FEE-5B6D-40F4-BAF9-4E450953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04609-8FC0-4690-976F-7478F0B5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3E9AE-C16F-46EF-971A-0139B810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C00ED-EF33-4F5F-9A15-525E3B9C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316F4-900A-434B-B989-DF5B8633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45812-E86D-4535-8246-1B3EBB93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908A-A179-41ED-80C1-5BE94202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64B24-0CAA-4C6A-AFE8-2569E91A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84087-C15C-447D-AEED-659CD6DD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D9840-EE31-4E2F-8247-69FC8836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FA6496-6D89-4C38-A441-93533268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04870-F556-4391-BB40-485F0D04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CAEDE-A066-4828-8980-D1D29F11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6096E-C6F5-4C85-996B-2CF4E676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048F80-5986-4FA7-8685-0B3FAC30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19663B-9903-40C4-AF6B-E203ED29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F2F9D8-FBE4-4491-B02A-E64074D9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EC5-6F69-45AF-9267-90EC461E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CDC9A2-ABE8-4CF3-BBC3-E8B909C5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1BCEED-7ACF-43B9-97DE-E2D618CE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2E310-4A9B-43C6-96B1-B0B98DED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442AA0-121F-4292-A40B-FC8AEDE7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4155EC-BCCF-4146-BA24-DD626DD6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DEF456-7870-44BB-A552-3C6C8639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9E1459-F3B9-47F2-A00B-0928E953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745BEC-875A-439B-957B-D1A6EB5D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5D9509-6AF3-4EDB-B633-51FEE9E3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18C47-8DEB-4630-AB3D-B330D461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D64-8C21-4F6B-A8BF-D2427CE3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E80FB4-FDD9-40B8-B22C-F5DB05C0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732AF-0DC3-448A-A7DD-3067AFE4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2479DF-AAA3-4F14-8D61-729DD831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B45245-01C1-4C14-AD65-7A1704F8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D79594-E205-41FC-B25B-CD5514C0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267A9A-0D16-4476-9ADF-1CDA5AFC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1DF3A6-2209-4FB7-8652-11BC69E3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BF014B-1F20-4ABB-856F-7965BAFA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B97E43-BA8A-4D4D-892D-530F17F2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0B0555-5C37-4B05-A41D-5730FD54C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295-73D6-4639-8B1F-106EC3CF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08DFB7-A399-4A09-BC01-DCB696C4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AAF1B-16D6-48A6-8793-8AE814A8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7DF14-0E9A-4961-8D80-E52FA7C1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0F8A1-FA06-4AFD-AC6C-4A2E292F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2083A-0161-4A21-B42F-27A259B3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507CB-FD7A-4E80-ABDC-A47E9BA5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461D4-5C54-4DD8-BA8A-F90C9509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8FA00-6801-4E04-8B9F-8F5C5250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06143-8742-4D6C-AB43-65B35E87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74278-9963-488A-A699-3A2D7AC9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54F-2016-4CCD-BD4A-EAA1E80F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7AF4B-9926-4CDF-9923-8BBA5E3A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642A8-8A67-47FD-BBEA-F1B05C40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D18E7-95D4-442E-B746-A1772008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35664-E8DC-431A-9417-E840E9F7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B1156F-22D6-46C7-BE88-FB4BA915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952068-FEEF-4496-A3B8-CF46EB47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D36C0-D13A-4660-A3B9-D494217B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7AE0A-1C6B-4C24-A0D3-179EF0E6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D13A6C-0306-4A92-A12B-BDA11FA5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FB42C7-2295-4B66-B2A0-FF077DBE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912-032E-43C7-8F85-1D7169A1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503BFF-65AE-47ED-875F-49833991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0DB01E-CF0D-43C0-A7B2-A511CC4F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1DC591-0183-4343-86AE-B2E21C91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B0E31A-14A3-4754-8541-AF72A6AF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25D0F1-5359-4588-9A9A-430A84A0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21527-515A-4D39-BE6B-082BB0BE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353CC-3B80-4701-9749-6C700055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7ED43-4966-475D-832C-EA91DA8D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A84E9-C82E-41AC-A457-DED9367D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D6233-5999-4AD6-8515-E712919F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1226-79F0-44FC-A4A6-D5DAA774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F9C17-BB4B-49E0-ACC9-05412025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60FF1-3804-4F79-8FB1-375BC9D4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FE731-6453-492A-9F96-17CD1B3C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96098-A4F4-4A92-818B-C241B671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F44FC-23B9-4273-91FE-37FF2543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2D871-256F-456D-BDF9-61312EFE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3612C-0728-4266-AA0A-4899BABF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6D79-591F-4EF3-83A3-70A021C733C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E3CD-10D2-4F2F-80A6-1B8C14BAB7C0}" type="slidenum">
              <a:rPr b="1" lang="ru-RU" sz="14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30DF-4E7F-43C3-B371-B1425D57F1BE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2809-00AB-4B2F-BE4E-84D062140E74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38C2-8270-4DB7-A047-5654278E1608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A381-C751-454B-8DCE-EC1A5FD2D76B}" type="slidenum">
              <a:rPr b="1" lang="ru-RU" sz="14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D2EB-9455-47B7-9693-9E39C020C468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A13C-2BCA-48B3-AA6F-B1C328FC6A35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zalia.ucoz.ru/plakat_2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57240" y="4038480"/>
            <a:ext cx="69818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МОДЕЛИ ИНТЕГРАЦИИ ДЕТЕЙ С ОГРАНИЧЕННЫМИ ВОЗМОЖНОСТЯМИ ЗДОРОВЬЯ</a:t>
            </a:r>
            <a:endParaRPr b="0" lang="en-US" sz="36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ечественная концепция интегрированного обучения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Picture 2" descr="http://azalia.ucoz.ru/plakat_2s.jpg">
            <a:hlinkClick r:id="rId1"/>
          </p:cNvPr>
          <p:cNvPicPr/>
          <p:nvPr/>
        </p:nvPicPr>
        <p:blipFill>
          <a:blip r:embed="rId2"/>
          <a:srcRect l="0" t="0" r="0" b="11654"/>
          <a:stretch/>
        </p:blipFill>
        <p:spPr>
          <a:xfrm>
            <a:off x="500040" y="214200"/>
            <a:ext cx="5076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ети с ОВЗ изучают такие предметы, как изобразительное искусство, ОБЖ, физкультура, музыка, пение и трудовое обучение </a:t>
            </a: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в условиях общеобразовательных классов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а предметы по программам для С(К)ОУ соответствующих видов – в условиях классов коррекционно-педагогической поддержки. Обычно это такие предметы, как математика, русский язык или письмо и развитие речи, чтение или чтение и развитие речи, трудовое обучение, ритмик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о-медико-педагогическое сопровождение поддерживает индивидуальные учебно-коррекционные маршруты и изучение программ для учеников с ОВЗ в целях обеспечения психологической, педагогической, медицинской, социально-педагогической и логопедической помощи; обеспечивает психологический комфорт и контроль за реализацией досугово-реабилитационн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ной частью социально-образовательной интеграции является развернутая система дополнительного образования. Его направления могут быть достаточно различны, но необходимый минимум эт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культурно-спортивные се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удожественно-эстетические студии и круж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нятия декоративно-прикладным искусством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о-техническое творчест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13840" y="2286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собенности организации интегрированного обучения в начальных классах общеобразовательной школы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4296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авление и отбор учебных планов, образовательных программ и учебно-методических и дидактических комплекс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школьном учебном план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пределен состав учебных предметов в рамках образовательных областей и образовательных компонентов базисного учебного плана, а значит, должна быть отражена специфика образовательной деятельности школы как учреждения, работающего в рамках интегрированного обучения. Методическое обеспечение такого обучения учащихся с психофизическими нарушениями и детей с нормальным развитием объединяет программные, учебно-методические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дактические материа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для общеобразовательной школы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 и для специаль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коррекционного) образовательного учрежд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редством которых выстраивае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бно-воспитательный процесс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8" descr="http://im4-tub-ru.yandex.net/i?id=53481445-56-72"/>
          <p:cNvPicPr/>
          <p:nvPr/>
        </p:nvPicPr>
        <p:blipFill>
          <a:blip r:embed="rId1"/>
          <a:stretch/>
        </p:blipFill>
        <p:spPr>
          <a:xfrm>
            <a:off x="5857920" y="3857760"/>
            <a:ext cx="27860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рганизации учебно-воспитательного процесса главная трудность для учителя состоит в том, чтобы соотнести индивидуальные особенности ребенка с проблемами в развитии, интегрированного в среду нормально развивающихся сверстников, с выполнением образовательного стандарта, заложенного в специальной коррекционной образовательной программе для учреждений VII или VIII ви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 показывает, что в обучении детей с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держкой психического развит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начальных этапах преобладает работа учителя-дефектолога в условиях класса коррекционно-педагогической поддержки, но постепенно участие учителя-дефектолога сокращается, и дети в большем объеме получают знания на уроках в условиях общеобразовательного клас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обучении же детей с нарушением интеллекта ситуация обратная. На начальных этапах обучения умственно отсталые дети большую часть учебного времени проводят со своими нормально развивающимися сверстниками, но по мере адаптации детей к классу и усложнения образовательной программы увеличивается количество часов обучения в классе коррекционно-педагогической поддержки под руководством учителя-дефектоло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ыбор программ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– основа обучения. Для обучения учащихся с особенностями в развитии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в начальной школе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за основу берутся: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иповые государственные программы для общеобразовательных учрежде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1–4 кл. (Авторские программы Л.В.Занкова, В.В.Истоминой, Д.Б.Эльконина, В.В.Давыдова, Н.Я.Виленкина – Л.Г.Петерсон и типовые – авторы В.Г.Горецкий, В.А.Кирюшкин, Т.Г.Рамзаева, Л.Ф.Климанова, Н.Н.Светловская, О.В.Джежелей, М.И Моро, М.А.Бантова, Г.В.Бельтюкова, С.И.Волкова, С.В.Степанова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VII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задержкой псих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Е.А.Екжанова, Г.М.Капустина, Ю.А.Костенкова, Т.В.Кузмичева, Е.Б.Новикова, Е.Н.Морсакова, Р.Д.Тригер, Н.А.Цыпина, С.Г.Шевченко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рограммы специальных (коррекционных) образовательных учреждений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VII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вида для детей с нарушением интелл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Авторы:В.В.Воронкова, И.В.Коломыткина, Н.М.Барская, С.Ю.Ильина, З.Н. Смирнова, Г.Н.Гусева, А.К.Аксенова, Э.В.Якубовская, А.А.Хилько, В.В.Эк, М.Н.Перова и др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Calibri"/>
              </a:rPr>
              <a:t>Интегрированное календарно-тематическое планирование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85480" y="1599840"/>
            <a:ext cx="8643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 основе обозначенных программ, учебников и учебных пособий составляется </a:t>
            </a:r>
            <a:r>
              <a:rPr b="1" i="1" lang="ru-RU" sz="2100" spc="-1" strike="noStrike">
                <a:solidFill>
                  <a:srgbClr val="000000"/>
                </a:solidFill>
                <a:latin typeface="Calibri"/>
              </a:rPr>
              <a:t>интегрированное календарно-тематическое планировани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по учебным дисциплинам. В составлении календарно-тематического планирования принимают участие учителя начальных классов, учителя-дефектологи. Это объясняется тем, что количество часов по учебным дисциплинам, содержание тем образовательной программы следует распределить для изучения в общеобразовательном классе и в классе коррекционно-педагогической поддержки. Программы образовательных учреждений изучаются учителями и сводятся совместно со специалистами коррекционного образования таким образом в календарно-тематическое планирование, чтобы на одном уроке дети разных уровней развития изучали одну и ту же тему, но информация, получаемая учениками по теме, должна быть адекватна его образовательной программе. Контрольные и творческие работы разрабатываются в соответствии с уровнем развития учащихся и оцениваются согласно требованиям учебной программ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1f497d"/>
                </a:solidFill>
                <a:latin typeface="Calibri"/>
              </a:rPr>
              <a:t>Поурочное планирование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4200" y="1600200"/>
            <a:ext cx="8715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урочное планиро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азируется на учебном плане образовательного учреждения, в котором выделяются инвариантная и вариативная части. Инвариантная часть учебного плана содержит в себе федеральный и национально-региональный компоненты. Федеральный компонент обеспечивает удовлетворение образовательных потребностей в рамках государственного стандарта, гарантирует овладение выпускниками знаниями, умениями, навыками, обеспечивающими возможность продолжения образования. Национально-региональный компонент обеспечивает включение в содержание образования вопросов, связанных со спецификой той или иной области страны (географические, социальные, производственные, экономические, экологические, этнические, культурные и т.п.), которые органично входят в соответствующие образовательные области в рамках часов учебных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868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пецифика составления школьных учебных планов для детей с задержкой психического развития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85480" y="1599840"/>
            <a:ext cx="864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ариативная часть учебного плана обеспечена учебно-методическим комплексом в части дополнительных часов, предоставленных на предметы, которые усиливают, расширяют и углубляют знания учащихс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специфику составления школьных учебных планов для детей с задержкой психического развития, интегрированных в среду своих нормально развивающихся сверстников, на начальной ступени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УЧЕБНЫЙ ПЛАН 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на 2008–2009 учебный год для детей, обучающихся по программам для учреждений VII вида (1–4 классы)</a:t>
            </a:r>
            <a:br>
              <a:rPr sz="40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57120" y="1905120"/>
          <a:ext cx="8572680" cy="466704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393840"/>
                <a:gridCol w="392040"/>
                <a:gridCol w="414360"/>
                <a:gridCol w="414360"/>
                <a:gridCol w="393480"/>
                <a:gridCol w="393840"/>
                <a:gridCol w="428400"/>
                <a:gridCol w="428760"/>
                <a:gridCol w="471600"/>
                <a:gridCol w="473040"/>
                <a:gridCol w="471600"/>
                <a:gridCol w="411120"/>
              </a:tblGrid>
              <a:tr h="80460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ая обла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часов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еде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-образовательный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 коррекц.-пед. поддер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56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ариант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 rowSpan="9"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образова-тельные к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родоведе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обр. иск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ыка и п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ая подготов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овое обу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71680" y="1643040"/>
          <a:ext cx="8143560" cy="4429080"/>
        </p:xfrm>
        <a:graphic>
          <a:graphicData uri="http://schemas.openxmlformats.org/drawingml/2006/table">
            <a:tbl>
              <a:tblPr/>
              <a:tblGrid>
                <a:gridCol w="1695240"/>
                <a:gridCol w="382680"/>
                <a:gridCol w="382680"/>
                <a:gridCol w="382320"/>
                <a:gridCol w="403200"/>
                <a:gridCol w="382680"/>
                <a:gridCol w="382680"/>
                <a:gridCol w="382680"/>
                <a:gridCol w="417240"/>
                <a:gridCol w="368280"/>
                <a:gridCol w="460440"/>
                <a:gridCol w="459000"/>
                <a:gridCol w="399960"/>
                <a:gridCol w="1644480"/>
              </a:tblGrid>
              <a:tr h="514440">
                <a:tc gridSpan="14"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риативная ч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накомление с окружающ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ат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едение в народ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Отечественная концепция интегрированного обучения строится на трех основных принципах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0004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ранней диагностике и коррекции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обязательной коррекционной помощи каждому ребенку, интегрированному в общеобразовательное пространство вне зависимости от формы интеграции, которую предпочли родители ребенка;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7375e"/>
                </a:solidFill>
                <a:latin typeface="Calibri"/>
              </a:rPr>
              <a:t>продуманном и обоснованном отборе детей для интегрированного обучени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4" descr="http://im7-tub-ru.yandex.net/i?id=19871399-44-72"/>
          <p:cNvPicPr/>
          <p:nvPr/>
        </p:nvPicPr>
        <p:blipFill>
          <a:blip r:embed="rId1"/>
          <a:stretch/>
        </p:blipFill>
        <p:spPr>
          <a:xfrm>
            <a:off x="6786720" y="5143680"/>
            <a:ext cx="21430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1714680"/>
          <a:ext cx="8786880" cy="4998960"/>
        </p:xfrm>
        <a:graphic>
          <a:graphicData uri="http://schemas.openxmlformats.org/drawingml/2006/table">
            <a:tbl>
              <a:tblPr/>
              <a:tblGrid>
                <a:gridCol w="1743120"/>
                <a:gridCol w="1863720"/>
                <a:gridCol w="412560"/>
                <a:gridCol w="411480"/>
                <a:gridCol w="412560"/>
                <a:gridCol w="434880"/>
                <a:gridCol w="412920"/>
                <a:gridCol w="412560"/>
                <a:gridCol w="412920"/>
                <a:gridCol w="449280"/>
                <a:gridCol w="398520"/>
                <a:gridCol w="495360"/>
                <a:gridCol w="495000"/>
                <a:gridCol w="432000"/>
              </a:tblGrid>
              <a:tr h="4950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5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 нагр. при 6-дневн. учеб.н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 gridSpan="2"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видуальные и групповые коррекцион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8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речи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гопедические занятия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психомоторики и сенсорных процессов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пка 1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итерии эффективности интегрированного обучения</a:t>
            </a:r>
            <a:br>
              <a:rPr sz="2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85840" y="1949400"/>
            <a:ext cx="835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пешность овладения образовательной программой детьми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сутствие пропусков занятий без уважительной причи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ожительная динамика психосоматического здоровья и снижение заболеваемости детей с ОВ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личие друзей у детей с ОВЗ среди детей группы и однокласс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ость участия детей в системе дополнительного 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родителей в сопровождении детей с ОВ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астие детей и подростков в коллективных видах деятельности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428760"/>
            <a:ext cx="815328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Задачи специального образования в отношении интеграции: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определение системы показаний для осуществления интеграции ребенка с разным уровнем психофизического развития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содержания и форм специализированной поддержки детей, интегрированных в общеобразовательные учреждения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разработка и апробация вариативных индивидуальных программ воспитания, обучения и развития учащихся с психофизическими нарушения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17375e"/>
                </a:solidFill>
                <a:latin typeface="Calibri"/>
              </a:rPr>
              <a:t>в общеобразовательных учреждени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10" descr="http://im8-tub-ru.yandex.net/i?id=316505157-60-72"/>
          <p:cNvPicPr/>
          <p:nvPr/>
        </p:nvPicPr>
        <p:blipFill>
          <a:blip r:embed="rId1"/>
          <a:stretch/>
        </p:blipFill>
        <p:spPr>
          <a:xfrm>
            <a:off x="7000920" y="492912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Идеи Л.С. Выготского о воспитании ребенка с нарушением развития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14200" y="1856880"/>
            <a:ext cx="8715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готский писал, что «при всех достоинствах наша специальная школа отличается тем основным недостатком, что она замыкает своего воспитанника – слепого, глухого, умственно отсталого ребенка – в узкий круг школьного коллектива, создает замкнутый мир, в котором все приспособлено к дефекту ребенка, все фокусирует его внимание на своем недостатке и не вводит его в настоящую жиз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й из форм оптимального развития умственно отсталого ребенка, по мнению ученого, должен стать коллектив. Подчеркивая превалирующую роль коллектива в процессе развития и воспитания, автор выдвигает требование насыщения коллектива разными по степени интеллектуального недоразвития детьми. По мнению исследователя, в тех случаях, когда коллектив отсталых детей достаточно однороден, это наносит ущерб как нормальным, так и аномальным детям – лишает их возможности разви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356760"/>
            <a:ext cx="8153280" cy="8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Формы интегрированного обучения детей с отклонениями в развитии</a:t>
            </a:r>
            <a:br>
              <a:rPr sz="4000"/>
            </a:b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мбинирова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ученик с отклонениями в развитии способен обучаться в классе здоровых детей, получая при этом систематическую помощь со стороны учителя-дефектолога, логопеда, псих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частич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обучающиеся с отклонениями в развитии не способны на равных условиях со здоровыми сверстниками овладевать образовательной программой; в этом случае часть дня они проводят в спецклассах, а часть дня – в обычных класса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мен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дети, обучающиеся в специальных классах, и учащиеся обычных классов объединяются не реже двух раз в месяц для совместных прогулок, праздников, соревнований, отдельных мероприятий воспитательного знач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но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1–2 ребенка с отклонениями в развитии вливаются в обычные группы детского сада или классы (дети с ринолалией, слабовидящие или дети с кохлеарным имплантантом); эти дети по уровню психофизического, речевого развития более менее соответствуют возрастной норме и психологически готовы к совместному обучению со здоровыми сверстниками; коррекционную помощь они получают по месту обучения, или ее оказывают родители под контролем специалис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Этапы организации социально-образовательной интеграции: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ранне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дошкольного дет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школьного обуче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иод профессионально-трудовой адапта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4" descr="http://im5-tub-ru.yandex.net/i?id=7869440-41-72"/>
          <p:cNvPicPr/>
          <p:nvPr/>
        </p:nvPicPr>
        <p:blipFill>
          <a:blip r:embed="rId1"/>
          <a:stretch/>
        </p:blipFill>
        <p:spPr>
          <a:xfrm>
            <a:off x="5072040" y="4000680"/>
            <a:ext cx="3409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Calibri"/>
              </a:rPr>
              <a:t>Этап дошкольного детства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5280" y="1600200"/>
            <a:ext cx="837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мя встраивания ребенка с ОВЗ в первую общественную образовательную систему – дошкольное обучение и воспитание. Требования к осуществлению интеграции н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тапе дошкольного детст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язательное наличие индивидуальной коррекционно-развивающей и образовательно-воспитательной программы для ребёнка с теми или иными ограничения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ь создания адекватной возможностям ребёнка охранительно-педагогической и предметно-развивающей сред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ичие специальной образовательной помощи, осуществляемой командой сотрудников при ведущей роли педагога-дефектолог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ёткое разделение функционала всех специалистов, вовлечённых в интегрированное дошкольное 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родителей навыкам стимулирующего общения с собственным ребёнк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о-педагогическое сопровождение нормально развивающихся дошкольников, вовлечённых в интегрированное обуч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Calibri"/>
              </a:rPr>
              <a:t>Группы кратковременного пребывания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13840" y="1600200"/>
            <a:ext cx="8551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а из важных форм интегрированного обучени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дошкольном возраст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руппы кратковременного пребы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Поскольку в группы принимаются дети с различной структурой дефекта, при организации групповых занятий необходима одновременная, совместная работа 2–3 педагогов, осуществляющих обучение детей разным видам деятельности и обеспечивающих их сопровождение в процессе воспитания и обучения с учетом различий в тяжести имеющихся нарушений. Во время проведения одним из педагогов занятия по развитию той или иной деятельности, другие педагоги выполняют функцию педагогов сопровождения, тем самым помогая детям на занятии и одновременно обучая родителей навыкам взаимодействия с собственными детьми. Для этих целей возможно использование и родителей, прошедших квалифицированное обучение, и специально подготовленных тьюторов, которые соответствуют требованиям, предъявляемым к уровню их профессиональной и личностной готов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этом важно учитывать, что гибкое сочетание индивидуальных и групповых занятий позволяет ребёнку с ОВЗ выработать разные стратегии поведения в процессе общения и различных видах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1f497d"/>
                </a:solidFill>
                <a:latin typeface="Calibri"/>
              </a:rPr>
              <a:t>Период школьного обучения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13840" y="1600200"/>
            <a:ext cx="855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реализации социально-образовательной интеграции в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период школьного обучения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еобходимо наличие следующих четырёх структурных компонентов [Резникова Е.В., 2007]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общеобразовательного класс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учение в условиях класса коррекционно-педагогической поддержк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истема психолого-медико-педагогического сопровождения всех обучающихся в учрежден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ёрнутая сеть услуг дополнительного образо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9:15:43Z</dcterms:created>
  <dc:creator>Руководитель отдела</dc:creator>
  <dc:description/>
  <dc:language>en-US</dc:language>
  <cp:lastModifiedBy>Галина</cp:lastModifiedBy>
  <dcterms:modified xsi:type="dcterms:W3CDTF">2021-09-14T08:04:44Z</dcterms:modified>
  <cp:revision>16</cp:revision>
  <dc:subject/>
  <dc:title>моделей интеграции детей с ограниченными возможностями здоровья</dc:title>
</cp:coreProperties>
</file>