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01B9-AD61-4BAB-8488-3D37D923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1C7C-D74F-4971-A5FA-58AEA471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CEFD-A20C-4117-83BF-F1B97F8B4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DD7D-AB90-4B9F-82D5-971C4AC4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6CE0-1E12-42AB-B34F-E380BC777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7DD0-9C7F-465B-8AA2-C87DFF21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EE08-7D17-4185-8E27-4D306F2F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4738-6D55-4474-9634-022DB6F3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683C-0AA4-4363-976D-E3D921F2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804C-6D21-42B0-A11C-C60AED93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BCF8-7ECD-4B67-A668-AC816DD3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EB8A-F137-4066-8D0C-C9FE2BC9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3367-123A-47EA-A98D-642D8152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206D-4EAB-4570-96DD-360E7DA2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F7C6-2A58-48C1-85CC-2D26EAD1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5981-68E8-4C9E-A386-EC4736EB7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9ECD-A3B8-4ACB-9977-D8C56C1C0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6AA70D-8F40-489D-B04A-93D31AE9E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AA7610-032B-41C8-BDE2-366AEF92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D82FA5-2385-4C02-9D54-268A317F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69F406-2129-4902-B79A-6D8AE629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45CA80-05EE-4512-8DCC-9C9B05DD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A7D2-B136-41CE-9618-AC62D045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7357ED-4E59-46AC-AA43-18D5549B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2F4D0F-5EA4-45C0-BCE4-8CEB22E2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CC034D-C1FA-4575-B560-90C930F5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8B6F3D-BFA5-4F21-AEAF-2ED11926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B3190D-5197-4822-AC36-D519BE53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7F5DE2-9A3E-4EDC-887D-DD807D973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FED25A-EACE-4B65-A369-5C9EA40C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6EE795-29AD-4C9E-8201-9B7C3DAF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F420F4-C3C9-4DF6-A87B-6EAC4DF2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D840A1-36FF-4500-B6D0-3A6B5B48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599A-E190-4F24-B140-7F813244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C59BBE-EB8F-4861-A8D2-88DA6D12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B821F4-2AB2-4AAB-B7E5-902DF6C9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11862D-9907-4A76-86BE-4803F55C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3D0B9F-11B4-46CB-A989-6B8AA5ED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DEED07-21CF-4157-AB26-839401CF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FB42D7-B323-4594-B0DB-F65996B7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29B518-9FE3-4441-A216-C6E7FA44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7FA7EE-C610-4343-864D-0A7181D2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0C2058-2CF9-4439-AC80-DF15A9CBB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8C5C8B-9041-4CA5-8B84-07846C3A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F4AD-B580-4DB8-B5F1-095F5144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76D4B3-5F69-4567-88AD-450050F2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FE3D4F-5FB1-4489-8900-14D83CE2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B7A3F7-A233-41F6-AFC6-E1C9BB15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4CFFCC-56AA-4207-89E9-EDB73D36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892201-7BCA-4FB8-AA8A-C203E461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942FDC-C7CD-487D-9B43-0FEEC302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2B1FC0-D832-455D-AF74-5F494C54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1C2BD1-A117-4973-992B-7B7DD202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56F674-B1DD-40EE-B45E-28AA6817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CB0D34-B541-4C64-A542-D60D8570B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DADF-4C8E-4E5F-93F6-A1796509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1183F4-9CB6-4E98-838D-D5C81993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46E1C-187E-4D8A-9ED8-40D167C4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01895-3A2B-48EC-B257-92FB1D30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FA8DD-B88E-4A3C-A9B7-5CA294C5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D3A88-7202-4A13-94BC-EDC9EB40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F0213-3E32-4581-B6F3-0753567C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C27B4-FA4E-4A0E-A0CE-2CF902A3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315A8-C4D1-4D84-9D6E-23EE98AA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A9F1E-9123-4620-AA0B-547DA8D0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378B0-0FF8-4E8A-8A3F-0D661854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85E2-0A30-401F-9DD5-1159B085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B26B6-8EEB-4A1E-881E-BC479A90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9E124-17EF-4863-AC0D-FC6E41483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9ADCB-AFD0-4069-883F-48040715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7EE120-DF7A-4E43-AF5E-93C1A3B39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C50DA0-C932-4782-B55C-C7DCC6F8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A7D43C-A8A4-428A-A419-076CA2FF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D510C9-DC89-4D89-B68F-748050E0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34E053-C1BA-4B10-9DE4-09BAF832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E82CB0-B3F0-498C-AA84-A7615102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C3A80D-AC38-4DB0-A008-C7C85DEF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CB9F-BBEB-4E50-B1DD-F2CFF0BF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04D0FB-5DC2-4C21-B4CE-6936099C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B33954-C462-480D-A691-16E7F022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77AF8F-8065-4F9B-8949-4250FCFB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395D5E-41B0-45F9-BC1F-0DCAA120D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121960-E0D3-4D6A-A288-16DF60579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D5A6D-8E83-42B0-8364-98AD4D56A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85C83-3403-4C36-B8B9-1F1415C4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155E8-8C27-4E5A-8A73-36EF5C79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74BFB-2A8D-4F2B-A8A6-F2B838C9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33027-2A82-41B5-9EE2-C6D8E8BF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D64F-DB5F-4D64-9943-E419292F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B176D-DBF1-4E99-BC1A-7A0A933D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9EED1-1104-478A-B9F6-5B958417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DBE22-0E82-414D-B741-67E6370A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D9947-ACE2-4009-AC71-2D3C86D9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F2B42-3C18-4E76-81ED-1578B556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5A87B-DB98-4A92-9FEB-81BC9323E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9A135-6C4E-4CC1-A6C0-3A39500E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5E6F-4B49-4C48-A7CF-5AA26C7CA903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CB61-6484-4710-B7DD-00FD243559F3}" type="slidenum">
              <a:rPr b="1" lang="ru-RU" sz="1400" spc="-1" strike="noStrike">
                <a:solidFill>
                  <a:srgbClr val="eeece1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BF82-3988-4328-9902-212BB9546F17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3221-947C-40E8-BB25-F2EB4EEC6FB6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E0CA-F74E-44D9-A7D7-26216483F142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D3BA-E3D7-4FE4-A7F5-AEE638E0EE8A}" type="slidenum">
              <a:rPr b="1" lang="ru-RU" sz="14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59D0-8FE6-4764-B460-F3F7432245AC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D4C0-893D-47BB-90CA-360ADD92D9FF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zalia.ucoz.ru/plakat_2s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857240" y="4038480"/>
            <a:ext cx="69818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eece1"/>
                </a:solidFill>
                <a:latin typeface="Calibri"/>
              </a:rPr>
              <a:t>МОДЕЛИ ИНТЕГРАЦИИ ДЕТЕЙ С ОГРАНИЧЕННЫМИ ВОЗМОЖНОСТЯМИ ЗДОРОВЬЯ</a:t>
            </a:r>
            <a:endParaRPr b="0" lang="en-US" sz="36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течественная концепция интегрированного обучения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2" name="Picture 2" descr="http://azalia.ucoz.ru/plakat_2s.jpg">
            <a:hlinkClick r:id="rId1"/>
          </p:cNvPr>
          <p:cNvPicPr/>
          <p:nvPr/>
        </p:nvPicPr>
        <p:blipFill>
          <a:blip r:embed="rId2"/>
          <a:srcRect l="0" t="0" r="0" b="11654"/>
          <a:stretch/>
        </p:blipFill>
        <p:spPr>
          <a:xfrm>
            <a:off x="500040" y="214200"/>
            <a:ext cx="5076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ети с ОВЗ изучают такие предметы, как изобразительное искусство, ОБЖ, физкультура, музыка, пение и трудовое обучение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в условиях общеобразовательных классов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, а предметы по программам для С(К)ОУ соответствующих видов – в условиях классов коррекционно-педагогической поддержки. Обычно это такие предметы, как математика, русский язык или письмо и развитие речи, чтение или чтение и развитие речи, трудовое обучение, ритмик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сихолого-медико-педагогическое сопровождение поддерживает индивидуальные учебно-коррекционные маршруты и изучение программ для учеников с ОВЗ в целях обеспечения психологической, педагогической, медицинской, социально-педагогической и логопедической помощи; обеспечивает психологический комфорт и контроль за реализацией досугово-реабилитационн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авной частью социально-образовательной интеграции является развернутая система дополнительного образования. Его направления могут быть достаточно различны, но необходимый минимум эт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зкультурно-спортивные сек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удожественно-эстетические студии и круж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нятия декоративно-прикладным искусством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учно-техническое творче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13840" y="228600"/>
            <a:ext cx="8929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Особенности организации интегрированного обучения в начальных классах общеобразовательной школы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42960" y="15717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ставление и отбор учебных планов, образовательных программ и учебно-методических и дидактических комплекс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школьном учебном план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определен состав учебных предметов в рамках образовательных областей и образовательных компонентов базисного учебного плана, а значит, должна быть отражена специфика образовательной деятельности школы как учреждения, работающего в рамках интегрированного обучения. Методическое обеспечение такого обучения учащихся с психофизическими нарушениями и детей с нормальным развитием объединяет программные, учебно-методические 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идактические материалы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для общеобразовательной школы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ак и для специальног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коррекционного) образовательного учреждения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редством которых выстраиваетс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ебно-воспитательный процесс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8" descr="http://im4-tub-ru.yandex.net/i?id=53481445-56-72"/>
          <p:cNvPicPr/>
          <p:nvPr/>
        </p:nvPicPr>
        <p:blipFill>
          <a:blip r:embed="rId1"/>
          <a:stretch/>
        </p:blipFill>
        <p:spPr>
          <a:xfrm>
            <a:off x="5857920" y="3857760"/>
            <a:ext cx="2786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организации учебно-воспитательного процесса главная трудность для учителя состоит в том, чтобы соотнести индивидуальные особенности ребенка с проблемами в развитии, интегрированного в среду нормально развивающихся сверстников, с выполнением образовательного стандарта, заложенного в специальной коррекционной образовательной программе для учреждений VII или VIII ви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ыт показывает, что в обучении детей с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задержкой психического развит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 начальных этапах преобладает работа учителя-дефектолога в условиях класса коррекционно-педагогической поддержки, но постепенно участие учителя-дефектолога сокращается, и дети в большем объеме получают знания на уроках в условиях общеобразовательного класс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обучении же детей с нарушением интеллекта ситуация обратная. На начальных этапах обучения умственно отсталые дети большую часть учебного времени проводят со своими нормально развивающимися сверстниками, но по мере адаптации детей к классу и усложнения образовательной программы увеличивается количество часов обучения в классе коррекционно-педагогической поддержки под руководством учителя-дефектоло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42876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Выбор программ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– основа обучения. Для обучения учащихся с особенностями в развитии </a:t>
            </a: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в начальной школе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за основу берутся:</a:t>
            </a:r>
            <a:br>
              <a:rPr sz="2400"/>
            </a:b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иповые государственные программы для общеобразовательных учрежден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1–4 кл. (Авторские программы Л.В.Занкова, В.В.Истоминой, Д.Б.Эльконина, В.В.Давыдова, Н.Я.Виленкина – Л.Г.Петерсон и типовые – авторы В.Г.Горецкий, В.А.Кирюшкин, Т.Г.Рамзаева, Л.Ф.Климанова, Н.Н.Светловская, О.В.Джежелей, М.И Моро, М.А.Бантова, Г.В.Бельтюкова, С.И.Волкова, С.В.Степанов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ограммы специальных (коррекционных) образовательных учреждений 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VII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вида для детей с задержкой психического развит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Е.А.Екжанова, Г.М.Капустина, Ю.А.Костенкова, Т.В.Кузмичева, Е.Б.Новикова, Е.Н.Морсакова, Р.Д.Тригер, Н.А.Цыпина, С.Г.Шевченко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ограммы специальных (коррекционных) образовательных учреждений </a:t>
            </a: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VII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вида для детей с нарушением интеллект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Авторы:В.В.Воронкова, И.В.Коломыткина, Н.М.Барская, С.Ю.Ильина, З.Н. Смирнова, Г.Н.Гусева, А.К.Аксенова, Э.В.Якубовская, А.А.Хилько, В.В.Эк, М.Н.Перова и др.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f497d"/>
                </a:solidFill>
                <a:latin typeface="Calibri"/>
              </a:rPr>
              <a:t>Интегрированное календарно-тематическое планирование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85480" y="1599840"/>
            <a:ext cx="86439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а основе обозначенных программ, учебников и учебных пособий составляется </a:t>
            </a: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интегрированное календарно-тематическое планирование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по учебным дисциплинам. В составлении календарно-тематического планирования принимают участие учителя начальных классов, учителя-дефектологи. Это объясняется тем, что количество часов по учебным дисциплинам, содержание тем образовательной программы следует распределить для изучения в общеобразовательном классе и в классе коррекционно-педагогической поддержки. Программы образовательных учреждений изучаются учителями и сводятся совместно со специалистами коррекционного образования таким образом в календарно-тематическое планирование, чтобы на одном уроке дети разных уровней развития изучали одну и ту же тему, но информация, получаемая учениками по теме, должна быть адекватна его образовательной программе. Контрольные и творческие работы разрабатываются в соответствии с уровнем развития учащихся и оцениваются согласно требованиям учебной программы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f497d"/>
                </a:solidFill>
                <a:latin typeface="Calibri"/>
              </a:rPr>
              <a:t>Поурочное планирование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14200" y="1600200"/>
            <a:ext cx="8715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урочное планирова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базируется на учебном плане образовательного учреждения, в котором выделяются инвариантная и вариативная части. Инвариантная часть учебного плана содержит в себе федеральный и национально-региональный компоненты. Федеральный компонент обеспечивает удовлетворение образовательных потребностей в рамках государственного стандарта, гарантирует овладение выпускниками знаниями, умениями, навыками, обеспечивающими возможность продолжения образования. Национально-региональный компонент обеспечивает включение в содержание образования вопросов, связанных со спецификой той или иной области страны (географические, социальные, производственные, экономические, экологические, этнические, культурные и т.п.), которые органично входят в соответствующие образовательные области в рамках часов учебных предме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87868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пецифика составления школьных учебных планов для детей с задержкой психического развития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85480" y="1599840"/>
            <a:ext cx="8643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ариативная часть учебного плана обеспечена учебно-методическим комплексом в части дополнительных часов, предоставленных на предметы, которые усиливают, расширяют и углубляют знания учащихся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качестве примера рассмотрим специфику составления школьных учебных планов для детей с задержкой психического развития, интегрированных в среду своих нормально развивающихся сверстников, на начальной ступени обуч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УЧЕБНЫЙ ПЛАН 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на 2008–2009 учебный год для детей, обучающихся по программам для учреждений VII вида (1–4 классы)</a:t>
            </a:r>
            <a:br>
              <a:rPr sz="4000"/>
            </a:b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357120" y="1905120"/>
          <a:ext cx="8572680" cy="4667040"/>
        </p:xfrm>
        <a:graphic>
          <a:graphicData uri="http://schemas.openxmlformats.org/drawingml/2006/table">
            <a:tbl>
              <a:tblPr/>
              <a:tblGrid>
                <a:gridCol w="1743120"/>
                <a:gridCol w="1743120"/>
                <a:gridCol w="393840"/>
                <a:gridCol w="392040"/>
                <a:gridCol w="414360"/>
                <a:gridCol w="414360"/>
                <a:gridCol w="393480"/>
                <a:gridCol w="393840"/>
                <a:gridCol w="428400"/>
                <a:gridCol w="428760"/>
                <a:gridCol w="471600"/>
                <a:gridCol w="473040"/>
                <a:gridCol w="471600"/>
                <a:gridCol w="411120"/>
              </a:tblGrid>
              <a:tr h="80460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часов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нед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-образовательный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 коррекц.-пед. поддерж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560">
                <a:tc gridSpan="14"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вариант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400">
                <a:tc rowSpan="9"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образова-тельные к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родоведе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обр. иск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зыка и п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овая подготов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овое об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571680" y="1643040"/>
          <a:ext cx="8143560" cy="4429080"/>
        </p:xfrm>
        <a:graphic>
          <a:graphicData uri="http://schemas.openxmlformats.org/drawingml/2006/table">
            <a:tbl>
              <a:tblPr/>
              <a:tblGrid>
                <a:gridCol w="1695240"/>
                <a:gridCol w="382680"/>
                <a:gridCol w="382680"/>
                <a:gridCol w="382320"/>
                <a:gridCol w="403200"/>
                <a:gridCol w="382680"/>
                <a:gridCol w="382680"/>
                <a:gridCol w="382680"/>
                <a:gridCol w="417240"/>
                <a:gridCol w="368280"/>
                <a:gridCol w="460440"/>
                <a:gridCol w="459000"/>
                <a:gridCol w="399960"/>
                <a:gridCol w="1644480"/>
              </a:tblGrid>
              <a:tr h="514440">
                <a:tc gridSpan="14"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атив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знакомление с окружающ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т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а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ведение в народове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356760"/>
            <a:ext cx="81532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Отечественная концепция интегрированного обучения строится на трех основных принципах: 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00040" y="17859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ранней диагностике и коррекции;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обязательной коррекционной помощи каждому ребенку, интегрированному в общеобразовательное пространство вне зависимости от формы интеграции, которую предпочли родители ребенка;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продуманном и обоснованном отборе детей для интегрированного обуч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4" descr="http://im7-tub-ru.yandex.net/i?id=19871399-44-72"/>
          <p:cNvPicPr/>
          <p:nvPr/>
        </p:nvPicPr>
        <p:blipFill>
          <a:blip r:embed="rId1"/>
          <a:stretch/>
        </p:blipFill>
        <p:spPr>
          <a:xfrm>
            <a:off x="6786720" y="5143680"/>
            <a:ext cx="21430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0" y="1714680"/>
          <a:ext cx="8786880" cy="4998960"/>
        </p:xfrm>
        <a:graphic>
          <a:graphicData uri="http://schemas.openxmlformats.org/drawingml/2006/table">
            <a:tbl>
              <a:tblPr/>
              <a:tblGrid>
                <a:gridCol w="1743120"/>
                <a:gridCol w="1863720"/>
                <a:gridCol w="412560"/>
                <a:gridCol w="411480"/>
                <a:gridCol w="412560"/>
                <a:gridCol w="434880"/>
                <a:gridCol w="412920"/>
                <a:gridCol w="412560"/>
                <a:gridCol w="412920"/>
                <a:gridCol w="449280"/>
                <a:gridCol w="398520"/>
                <a:gridCol w="495360"/>
                <a:gridCol w="495000"/>
                <a:gridCol w="432000"/>
              </a:tblGrid>
              <a:tr h="495000">
                <a:tc gridSpan="2"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. нагр. при 5-дневн. учеб.н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 gridSpan="2"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. нагр. при 6-дневн. учеб.н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 gridSpan="2"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дивидуальные и групповые коррекционны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896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речи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огопедические занятия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психомоторики и сенсорных процессов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пка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42876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итерии эффективности интегрированного обучения</a:t>
            </a:r>
            <a:br>
              <a:rPr sz="2000"/>
            </a:b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285840" y="1949400"/>
            <a:ext cx="835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спешность овладения образовательной программой детьми с ОВ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сутствие пропусков занятий без уважительной причин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ожительная динамика психосоматического здоровья и снижение заболеваемости детей с ОВ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личие друзей у детей с ОВЗ среди детей группы и однокласс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ктивность участия детей в системе дополнительного образова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астие родителей в сопровождении детей с ОВ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астие детей и подростков в коллективных видах деятельности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42876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Задачи специального образования в отношении интеграции: 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определение системы показаний для осуществления интеграции ребенка с разным уровнем психофизического развития в общеобразовательные учреждения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разработка содержания и форм специализированной поддержки детей, интегрированных в общеобразовательные учреждения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разработка и апробация вариативных индивидуальных программ воспитания, обучения и развития учащихся с психофизическими нарушениям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в общеобразовательных учреждения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10" descr="http://im8-tub-ru.yandex.net/i?id=316505157-60-72"/>
          <p:cNvPicPr/>
          <p:nvPr/>
        </p:nvPicPr>
        <p:blipFill>
          <a:blip r:embed="rId1"/>
          <a:stretch/>
        </p:blipFill>
        <p:spPr>
          <a:xfrm>
            <a:off x="7000920" y="492912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Идеи Л.С. Выготского о воспитании ребенка с нарушением развития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14200" y="1856880"/>
            <a:ext cx="8715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готский писал, что «при всех достоинствах наша специальная школа отличается тем основным недостатком, что она замыкает своего воспитанника – слепого, глухого, умственно отсталого ребенка – в узкий круг школьного коллектива, создает замкнутый мир, в котором все приспособлено к дефекту ребенка, все фокусирует его внимание на своем недостатке и не вводит его в настоящую жизнь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ой из форм оптимального развития умственно отсталого ребенка, по мнению ученого, должен стать коллектив. Подчеркивая превалирующую роль коллектива в процессе развития и воспитания, автор выдвигает требование насыщения коллектива разными по степени интеллектуального недоразвития детьми. По мнению исследователя, в тех случаях, когда коллектив отсталых детей достаточно однороден, это наносит ущерб как нормальным, так и аномальным детям – лишает их возможности развит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356760"/>
            <a:ext cx="81532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Формы интегрированного обучения детей с отклонениями в развитии</a:t>
            </a:r>
            <a:br>
              <a:rPr sz="4000"/>
            </a:b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мбинирован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ученик с отклонениями в развитии способен обучаться в классе здоровых детей, получая при этом систематическую помощь со стороны учителя-дефектолога, логопеда, психолог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частич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обучающиеся с отклонениями в развитии не способны на равных условиях со здоровыми сверстниками овладевать образовательной программой; в этом случае часть дня они проводят в спецклассах, а часть дня – в обычных класса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ремен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дети, обучающиеся в специальных классах, и учащиеся обычных классов объединяются не реже двух раз в месяц для совместных прогулок, праздников, соревнований, отдельных мероприятий воспитательного знач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л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1–2 ребенка с отклонениями в развитии вливаются в обычные группы детского сада или классы (дети с ринолалией, слабовидящие или дети с кохлеарным имплантантом); эти дети по уровню психофизического, речевого развития более менее соответствуют возрастной норме и психологически готовы к совместному обучению со здоровыми сверстниками; коррекционную помощь они получают по месту обучения, или ее оказывают родители под контролем специалис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Этапы организации социально-образовательной интеграции: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раннего дет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дошкольного дет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школьного обучен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профессионально-трудовой адаптац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4" descr="http://im5-tub-ru.yandex.net/i?id=7869440-41-72"/>
          <p:cNvPicPr/>
          <p:nvPr/>
        </p:nvPicPr>
        <p:blipFill>
          <a:blip r:embed="rId1"/>
          <a:stretch/>
        </p:blipFill>
        <p:spPr>
          <a:xfrm>
            <a:off x="5072040" y="4000680"/>
            <a:ext cx="34099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Этап дошкольного детства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95280" y="1600200"/>
            <a:ext cx="8370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ремя встраивания ребенка с ОВЗ в первую общественную образовательную систему – дошкольное обучение и воспитание. Требования к осуществлению интеграции на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этапе дошкольного детств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язательное наличие индивидуальной коррекционно-развивающей и образовательно-воспитательной программы для ребёнка с теми или иными ограничения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обходимость создания адекватной возможностям ребёнка охранительно-педагогической и предметно-развивающей сред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ичие специальной образовательной помощи, осуществляемой командой сотрудников при ведущей роли педагога-дефектолог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ёткое разделение функционала всех специалистов, вовлечённых в интегрированное дошкольное образо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учение родителей навыкам стимулирующего общения с собственным ребёнк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сихолого-педагогическое сопровождение нормально развивающихся дошкольников, вовлечённых в интегрированное обуче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f497d"/>
                </a:solidFill>
                <a:latin typeface="Calibri"/>
              </a:rPr>
              <a:t>Группы кратковременного пребывания</a:t>
            </a: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13840" y="1600200"/>
            <a:ext cx="8551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а из важных форм интегрированного обучения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 дошкольном возраст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это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группы кратковременного пребыв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Поскольку в группы принимаются дети с различной структурой дефекта, при организации групповых занятий необходима одновременная, совместная работа 2–3 педагогов, осуществляющих обучение детей разным видам деятельности и обеспечивающих их сопровождение в процессе воспитания и обучения с учетом различий в тяжести имеющихся нарушений. Во время проведения одним из педагогов занятия по развитию той или иной деятельности, другие педагоги выполняют функцию педагогов сопровождения, тем самым помогая детям на занятии и одновременно обучая родителей навыкам взаимодействия с собственными детьми. Для этих целей возможно использование и родителей, прошедших квалифицированное обучение, и специально подготовленных тьюторов, которые соответствуют требованиям, предъявляемым к уровню их профессиональной и личностной готов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этом важно учитывать, что гибкое сочетание индивидуальных и групповых занятий позволяет ребёнку с ОВЗ выработать разные стратегии поведения в процессе общения и различных видах детск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f497d"/>
                </a:solidFill>
                <a:latin typeface="Calibri"/>
              </a:rPr>
              <a:t>Период школьного обучения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13840" y="1600200"/>
            <a:ext cx="8551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ля реализации социально-образовательной интеграции в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период школьного обучения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обходимо наличие следующих четырёх структурных компонентов [Резникова Е.В., 2007]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учение в условиях общеобразовательного класс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учение в условиях класса коррекционно-педагогической поддержк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истема психолого-медико-педагогического сопровождения всех обучающихся в учреждени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вёрнутая сеть услуг дополнительного образова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09:15:43Z</dcterms:created>
  <dc:creator>Руководитель отдела</dc:creator>
  <dc:description/>
  <dc:language>en-US</dc:language>
  <cp:lastModifiedBy>Галина</cp:lastModifiedBy>
  <dcterms:modified xsi:type="dcterms:W3CDTF">2021-09-14T08:04:44Z</dcterms:modified>
  <cp:revision>16</cp:revision>
  <dc:subject/>
  <dc:title>моделей интеграции детей с ограниченными возможностями здоровья</dc:title>
</cp:coreProperties>
</file>