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3D34-5C30-481F-A403-18A6F67CC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8004-5E11-4CC0-94E1-6D7F3E2BF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F8A1-5F8D-4550-AF08-C9B125EC6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5780-2A1A-47C8-BAC1-1DA1694A8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1EF57-D1AD-4A61-B629-8A53F0E57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98A78-6AB0-40C2-8478-B9702E362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CD461-2A70-4591-A9BE-5096FC2BE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6BDA6-B23D-4664-BF31-960868090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734A9-3ECC-4989-8383-610521B51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D8632-1A3E-4588-BDFD-55F5BF6BB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A054B-8D86-4189-9603-24721A74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BC66-503F-4071-B1A8-2918D1315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E0976-9848-4995-8B69-DBE06A0A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AA347-6C28-4CD1-9096-DDE2CFA2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ED356-F41A-4470-B71C-845DB87EF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E53FA-C25C-4BDF-A41F-05DB787A5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076CB-8181-45BF-99D7-7A472586D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5C81CF-C811-44BE-9CC7-FBB354CB8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344DCA-92BA-412A-A118-4483CA06B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84A1E2-8415-4EC2-B6D3-88DAE9C2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DD6BE0-FE25-4ECF-8E0A-9EDC4D8AC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05BE96-B6A1-4489-8E38-CE8E87D0D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D89C-6767-406B-B634-2CEED3D53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4D1075-47F7-463C-A058-2E3FFE8A1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DEBB55-DC6C-4AEE-9909-FB2426AA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2A84C3-C82F-47FA-98D5-FA2D7FF9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685BA0-12AB-4C00-8942-11CA3276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CA8AAB-FE6E-4588-AB1B-F8C740260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72CEDC-253E-4462-AE13-12E8324A2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5DBFD2-687F-43F9-9ED7-2142C911B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17F29C-09A7-4AC3-9527-640F0C287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37D8A6-D443-43DA-8F98-AAD471C3E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62DE27-2B57-4782-9547-739D01861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5F1B-E9C6-40EA-8F0F-B34D40389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DF1CD7-1350-4E3C-92C8-35C82C08B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B83946-737F-4938-96FF-782E9A9C5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62E327-6B55-44A0-8303-44B9BC084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35313B-7DB6-46DC-8716-76463926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9D142B-60C4-49BC-9E82-6B74C878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251A5A-309C-46FD-895E-22423B75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A80E39-5363-4FF4-80FF-1C0A3E79E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8F96BA-F0A1-4089-8E33-0D5A8A52E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DAABD3-4C50-485C-A61D-06966CA93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909291-7233-47A9-8000-0B3F70288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DF92-85C0-4D1D-AB4E-30B60D0C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A768EA-D62E-4286-B9D1-37BAA4274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513D3C-073C-4F78-A950-47587E8B9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ACED20-1FA6-4CD6-BD71-CCE5F30D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18F6FC-5D33-4A11-AC8E-99820F754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8476DD-2A94-4793-A9AD-8F4DE60CE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484FF0-128A-419E-9421-8896B8E1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89A1C4-816E-4FD7-BF5F-5605E5F5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B99197-C6BA-4244-9FBA-8F242895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FE527A-DA3B-4084-9206-CD08E201E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BA0E91-4F69-4C4A-A8D5-079783167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1576-36A6-4F3C-9A89-1420B3434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4AFEA5-9408-431E-AAAB-C703861CB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671999-AC9D-4391-8799-84C2BC7BE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17D4C-2730-49A4-AC5D-2735EFB02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2ED6FD-F261-478A-A87B-A4E13C9F0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E1763B-F71E-49A7-A4BE-8677A9A84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5145B-86E8-49BB-BD1E-A575C7B65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B8296-A232-4D99-93CC-7E1DC4412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BC4B9B-369F-41F6-B119-260E58FD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94395-02A7-4F5F-A498-30CD8CB0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FA0E3-B6F2-4849-B6EB-662962D6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F209-350C-4FDA-B914-9C207CD6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C434A-2814-43F0-B001-459A14F53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EEC58-E9CB-473F-A1E7-9FA5C8E8B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D6D0B-3086-47FC-9888-4BC3AD3F3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2352F6-44B9-4FDD-943B-E520C0E96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479FFB-B866-4517-A423-5D2E2A430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668039-C007-495F-9BB1-2CB560728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9AE302-E966-4184-9389-CB9E297D6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7DE5D3-E9EC-491D-BED4-24F7CCA18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3BF450-7506-435C-81BF-682EF7732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138693-A66E-477F-8A88-26231AF3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2254-5844-4252-AA11-C4673799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E1FAC3-06FE-4E63-BCAC-7920B5D1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972E17-AF42-4E04-AA26-37BC3C23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41A397-38D7-40C5-82CC-1A201B92A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82E2FE-B76A-4A8C-AE0B-3BF4B5F01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BEC58F-4688-4155-AEA8-256EEB1A0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7A7AAF-92E1-421E-8479-4AA0A1574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57DC65-5D02-49D7-9096-DFBA402BC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64C097-429D-48F3-B7C4-713344E74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66161-3873-430C-82F4-7A1D82DE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11C1F3-DEE4-45D5-BAD6-8B1B30B80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91D8-5F0A-4CC5-B483-ED012379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F92391-290B-4B73-84E6-7EB621C7B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29E9BB-D671-4220-ACFC-DEF3958E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47FE03-A336-4CAB-9459-FF3B0B4B2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429753-296D-4777-8E14-9F48F562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5F9E4A-43B5-4B90-8E4A-E61DA3E1C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3E97B7-08D6-4584-AB57-F1B337197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72B4B9-9C88-4E94-AF41-8831CC08F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80DBD-5402-4505-9193-999DDD20EEAE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eece1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56CA7-BDFC-4F68-AFD5-CE182902205F}" type="slidenum">
              <a:rPr b="1" lang="ru-RU" sz="1400" spc="-1" strike="noStrike">
                <a:solidFill>
                  <a:srgbClr val="eeece1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48FD-EEBC-4288-97BB-F1E5E3ACCFCB}" type="slidenum">
              <a:rPr b="1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FFFDF-49DF-47DC-B921-FA1C2A7E7343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5EF57-8ED3-4899-B847-F8749397FE74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3DB00-7E88-49EA-97F1-7E8D98ED8C17}" type="slidenum">
              <a:rPr b="1" lang="ru-RU" sz="1400" spc="-1" strike="noStrike">
                <a:solidFill>
                  <a:srgbClr val="1f497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C5196-54DA-47AC-AB0D-5AB787512752}" type="slidenum">
              <a:rPr b="1" lang="ru-RU" sz="2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97A3B-D8C8-4EFB-BD3B-BF402379FE89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azalia.ucoz.ru/plakat_2s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857240" y="4038480"/>
            <a:ext cx="698184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eece1"/>
                </a:solidFill>
                <a:latin typeface="Calibri"/>
              </a:rPr>
              <a:t>МОДЕЛИ ИНТЕГРАЦИИ ДЕТЕЙ С ОГРАНИЧЕННЫМИ ВОЗМОЖНОСТЯМИ ЗДОРОВЬЯ</a:t>
            </a:r>
            <a:endParaRPr b="0" lang="en-US" sz="36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Отечественная концепция интегрированного обучения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52" name="Picture 2" descr="http://azalia.ucoz.ru/plakat_2s.jpg">
            <a:hlinkClick r:id="rId1"/>
          </p:cNvPr>
          <p:cNvPicPr/>
          <p:nvPr/>
        </p:nvPicPr>
        <p:blipFill>
          <a:blip r:embed="rId2"/>
          <a:srcRect l="0" t="0" r="0" b="11654"/>
          <a:stretch/>
        </p:blipFill>
        <p:spPr>
          <a:xfrm>
            <a:off x="500040" y="214200"/>
            <a:ext cx="507672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Дети с ОВЗ изучают такие предметы, как изобразительное искусство, ОБЖ, физкультура, музыка, пение и трудовое обучение </a:t>
            </a: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в условиях общеобразовательных классов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, а предметы по программам для С(К)ОУ соответствующих видов – в условиях классов коррекционно-педагогической поддержки. Обычно это такие предметы, как математика, русский язык или письмо и развитие речи, чтение или чтение и развитие речи, трудовое обучение, ритмика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сихолого-медико-педагогическое сопровождение поддерживает индивидуальные учебно-коррекционные маршруты и изучение программ для учеников с ОВЗ в целях обеспечения психологической, педагогической, медицинской, социально-педагогической и логопедической помощи; обеспечивает психологический комфорт и контроль за реализацией досугово-реабилитационной деятель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ставной частью социально-образовательной интеграции является развернутая система дополнительного образования. Его направления могут быть достаточно различны, но необходимый минимум это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изкультурно-спортивные секц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удожественно-эстетические студии и кружк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нятия декоративно-прикладным искусством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учно-техническое творчеств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13840" y="228600"/>
            <a:ext cx="8929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Особенности организации интегрированного обучения в начальных классах общеобразовательной школы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42960" y="157176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ставление и отбор учебных планов, образовательных программ и учебно-методических и дидактических комплексо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школьном учебном плане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определен состав учебных предметов в рамках образовательных областей и образовательных компонентов базисного учебного плана, а значит, должна быть отражена специфика образовательной деятельности школы как учреждения, работающего в рамках интегрированного обучения. Методическое обеспечение такого обучения учащихся с психофизическими нарушениями и детей с нормальным развитием объединяет программные, учебно-методические 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идактические материалы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ак для общеобразовательной школы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ак и для специального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коррекционного) образовательного учреждения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средством которых выстраиваетс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чебно-воспитательный процесс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7" name="Picture 8" descr="http://im4-tub-ru.yandex.net/i?id=53481445-56-72"/>
          <p:cNvPicPr/>
          <p:nvPr/>
        </p:nvPicPr>
        <p:blipFill>
          <a:blip r:embed="rId1"/>
          <a:stretch/>
        </p:blipFill>
        <p:spPr>
          <a:xfrm>
            <a:off x="5857920" y="3857760"/>
            <a:ext cx="27860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организации учебно-воспитательного процесса главная трудность для учителя состоит в том, чтобы соотнести индивидуальные особенности ребенка с проблемами в развитии, интегрированного в среду нормально развивающихся сверстников, с выполнением образовательного стандарта, заложенного в специальной коррекционной образовательной программе для учреждений VII или VIII вид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ыт показывает, что в обучении детей с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задержкой психического развит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на начальных этапах преобладает работа учителя-дефектолога в условиях класса коррекционно-педагогической поддержки, но постепенно участие учителя-дефектолога сокращается, и дети в большем объеме получают знания на уроках в условиях общеобразовательного класс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обучении же детей с нарушением интеллекта ситуация обратная. На начальных этапах обучения умственно отсталые дети большую часть учебного времени проводят со своими нормально развивающимися сверстниками, но по мере адаптации детей к классу и усложнения образовательной программы увеличивается количество часов обучения в классе коррекционно-педагогической поддержки под руководством учителя-дефектолог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428760"/>
            <a:ext cx="815328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Calibri"/>
              </a:rPr>
              <a:t>Выбор программ</a:t>
            </a: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 – основа обучения. Для обучения учащихся с особенностями в развитии </a:t>
            </a:r>
            <a:r>
              <a:rPr b="1" i="1" lang="ru-RU" sz="2400" spc="-1" strike="noStrike">
                <a:solidFill>
                  <a:srgbClr val="1f497d"/>
                </a:solidFill>
                <a:latin typeface="Calibri"/>
              </a:rPr>
              <a:t>в начальной школе</a:t>
            </a: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 за основу берутся:</a:t>
            </a:r>
            <a:br>
              <a:rPr sz="2400"/>
            </a:b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типовые государственные программы для общеобразовательных учреждени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1–4 кл. (Авторские программы Л.В.Занкова, В.В.Истоминой, Д.Б.Эльконина, В.В.Давыдова, Н.Я.Виленкина – Л.Г.Петерсон и типовые – авторы В.Г.Горецкий, В.А.Кирюшкин, Т.Г.Рамзаева, Л.Ф.Климанова, Н.Н.Светловская, О.В.Джежелей, М.И Моро, М.А.Бантова, Г.В.Бельтюкова, С.И.Волкова, С.В.Степанова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рограммы специальных (коррекционных) образовательных учреждений </a:t>
            </a: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VII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вида для детей с задержкой психического развития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Е.А.Екжанова, Г.М.Капустина, Ю.А.Костенкова, Т.В.Кузмичева, Е.Б.Новикова, Е.Н.Морсакова, Р.Д.Тригер, Н.А.Цыпина, С.Г.Шевченко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рограммы специальных (коррекционных) образовательных учреждений </a:t>
            </a:r>
            <a:r>
              <a:rPr b="0" i="1" lang="en-US" sz="2000" spc="-1" strike="noStrike">
                <a:solidFill>
                  <a:srgbClr val="000000"/>
                </a:solidFill>
                <a:latin typeface="Tw Cen MT"/>
              </a:rPr>
              <a:t>VIII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вида для детей с нарушением интеллект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(Авторы:В.В.Воронкова, И.В.Коломыткина, Н.М.Барская, С.Ю.Ильина, З.Н. Смирнова, Г.Н.Гусева, А.К.Аксенова, Э.В.Якубовская, А.А.Хилько, В.В.Эк, М.Н.Перова и др.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f497d"/>
                </a:solidFill>
                <a:latin typeface="Calibri"/>
              </a:rPr>
              <a:t>Интегрированное календарно-тематическое планирование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285480" y="1599840"/>
            <a:ext cx="864396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На основе обозначенных программ, учебников и учебных пособий составляется </a:t>
            </a:r>
            <a:r>
              <a:rPr b="1" i="1" lang="ru-RU" sz="2100" spc="-1" strike="noStrike">
                <a:solidFill>
                  <a:srgbClr val="000000"/>
                </a:solidFill>
                <a:latin typeface="Calibri"/>
              </a:rPr>
              <a:t>интегрированное календарно-тематическое планирование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по учебным дисциплинам. В составлении календарно-тематического планирования принимают участие учителя начальных классов, учителя-дефектологи. Это объясняется тем, что количество часов по учебным дисциплинам, содержание тем образовательной программы следует распределить для изучения в общеобразовательном классе и в классе коррекционно-педагогической поддержки. Программы образовательных учреждений изучаются учителями и сводятся совместно со специалистами коррекционного образования таким образом в календарно-тематическое планирование, чтобы на одном уроке дети разных уровней развития изучали одну и ту же тему, но информация, получаемая учениками по теме, должна быть адекватна его образовательной программе. Контрольные и творческие работы разрабатываются в соответствии с уровнем развития учащихся и оцениваются согласно требованиям учебной программы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f497d"/>
                </a:solidFill>
                <a:latin typeface="Calibri"/>
              </a:rPr>
              <a:t>Поурочное планирование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214200" y="1600200"/>
            <a:ext cx="8715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оурочное планировани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базируется на учебном плане образовательного учреждения, в котором выделяются инвариантная и вариативная части. Инвариантная часть учебного плана содержит в себе федеральный и национально-региональный компоненты. Федеральный компонент обеспечивает удовлетворение образовательных потребностей в рамках государственного стандарта, гарантирует овладение выпускниками знаниями, умениями, навыками, обеспечивающими возможность продолжения образования. Национально-региональный компонент обеспечивает включение в содержание образования вопросов, связанных со спецификой той или иной области страны (географические, социальные, производственные, экономические, экологические, этнические, культурные и т.п.), которые органично входят в соответствующие образовательные области в рамках часов учебных предме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14200" y="356760"/>
            <a:ext cx="8786880" cy="86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Специфика составления школьных учебных планов для детей с задержкой психического развития</a:t>
            </a:r>
            <a:br>
              <a:rPr sz="2800"/>
            </a:b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285480" y="1599840"/>
            <a:ext cx="8643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ариативная часть учебного плана обеспечена учебно-методическим комплексом в части дополнительных часов, предоставленных на предметы, которые усиливают, расширяют и углубляют знания учащихся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 качестве примера рассмотрим специфику составления школьных учебных планов для детей с задержкой психического развития, интегрированных в среду своих нормально развивающихся сверстников, на начальной ступени обучения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500040"/>
            <a:ext cx="91440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УЧЕБНЫЙ ПЛАН </a:t>
            </a:r>
            <a:br>
              <a:rPr sz="2400"/>
            </a:b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на 2008–2009 учебный год для детей, обучающихся по программам для учреждений VII вида (1–4 классы)</a:t>
            </a:r>
            <a:br>
              <a:rPr sz="4000"/>
            </a:b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357120" y="1905120"/>
          <a:ext cx="8572680" cy="4667040"/>
        </p:xfrm>
        <a:graphic>
          <a:graphicData uri="http://schemas.openxmlformats.org/drawingml/2006/table">
            <a:tbl>
              <a:tblPr/>
              <a:tblGrid>
                <a:gridCol w="1743120"/>
                <a:gridCol w="1743120"/>
                <a:gridCol w="393840"/>
                <a:gridCol w="392040"/>
                <a:gridCol w="414360"/>
                <a:gridCol w="414360"/>
                <a:gridCol w="393480"/>
                <a:gridCol w="393840"/>
                <a:gridCol w="428400"/>
                <a:gridCol w="428760"/>
                <a:gridCol w="471600"/>
                <a:gridCol w="473040"/>
                <a:gridCol w="471600"/>
                <a:gridCol w="411120"/>
              </a:tblGrid>
              <a:tr h="804600"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тельная обла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м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часов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недел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-образовательный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ласс коррекц.-пед. поддерж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560">
                <a:tc gridSpan="14"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вариантная ч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400">
                <a:tc rowSpan="9"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образова-тельные кур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лас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усски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тера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ема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родоведе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обр. иск-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зкуль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зыка и п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удовая подготов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удовое обу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f497d"/>
              </a:solidFill>
              <a:latin typeface="Calibri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571680" y="1643040"/>
          <a:ext cx="8143560" cy="4429080"/>
        </p:xfrm>
        <a:graphic>
          <a:graphicData uri="http://schemas.openxmlformats.org/drawingml/2006/table">
            <a:tbl>
              <a:tblPr/>
              <a:tblGrid>
                <a:gridCol w="1695240"/>
                <a:gridCol w="382680"/>
                <a:gridCol w="382680"/>
                <a:gridCol w="382320"/>
                <a:gridCol w="403200"/>
                <a:gridCol w="382680"/>
                <a:gridCol w="382680"/>
                <a:gridCol w="382680"/>
                <a:gridCol w="417240"/>
                <a:gridCol w="368280"/>
                <a:gridCol w="460440"/>
                <a:gridCol w="459000"/>
                <a:gridCol w="399960"/>
                <a:gridCol w="1644480"/>
              </a:tblGrid>
              <a:tr h="514440">
                <a:tc gridSpan="14"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риативная ч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5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знакомление с окружающи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р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итм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ат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ведение в народове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2720" y="356760"/>
            <a:ext cx="8153280" cy="86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Отечественная концепция интегрированного обучения строится на трех основных принципах: </a:t>
            </a:r>
            <a:br>
              <a:rPr sz="2800"/>
            </a:b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500040" y="178596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17375e"/>
                </a:solidFill>
                <a:latin typeface="Calibri"/>
              </a:rPr>
              <a:t>ранней диагностике и коррекции;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17375e"/>
                </a:solidFill>
                <a:latin typeface="Calibri"/>
              </a:rPr>
              <a:t>обязательной коррекционной помощи каждому ребенку, интегрированному в общеобразовательное пространство вне зависимости от формы интеграции, которую предпочли родители ребенка;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17375e"/>
                </a:solidFill>
                <a:latin typeface="Calibri"/>
              </a:rPr>
              <a:t>продуманном и обоснованном отборе детей для интегрированного обучения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5" name="Picture 4" descr="http://im7-tub-ru.yandex.net/i?id=19871399-44-72"/>
          <p:cNvPicPr/>
          <p:nvPr/>
        </p:nvPicPr>
        <p:blipFill>
          <a:blip r:embed="rId1"/>
          <a:stretch/>
        </p:blipFill>
        <p:spPr>
          <a:xfrm>
            <a:off x="6786720" y="5143680"/>
            <a:ext cx="21430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f497d"/>
              </a:solidFill>
              <a:latin typeface="Calibri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0" y="1714680"/>
          <a:ext cx="8786880" cy="4998960"/>
        </p:xfrm>
        <a:graphic>
          <a:graphicData uri="http://schemas.openxmlformats.org/drawingml/2006/table">
            <a:tbl>
              <a:tblPr/>
              <a:tblGrid>
                <a:gridCol w="1743120"/>
                <a:gridCol w="1863720"/>
                <a:gridCol w="412560"/>
                <a:gridCol w="411480"/>
                <a:gridCol w="412560"/>
                <a:gridCol w="434880"/>
                <a:gridCol w="412920"/>
                <a:gridCol w="412560"/>
                <a:gridCol w="412920"/>
                <a:gridCol w="449280"/>
                <a:gridCol w="398520"/>
                <a:gridCol w="495360"/>
                <a:gridCol w="495000"/>
                <a:gridCol w="432000"/>
              </a:tblGrid>
              <a:tr h="495000">
                <a:tc gridSpan="2"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. нагр. при 5-дневн. учеб.не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 gridSpan="2"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. нагр. при 6-дневн. учеб.не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 gridSpan="2"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дивидуальные и групповые коррекционные зан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896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усский язык 1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ематика 1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витие речи 1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огопедические занятия 1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витие психомоторики и сенсорных процессов 1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пка 1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2720" y="428760"/>
            <a:ext cx="815328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ритерии эффективности интегрированного обучения</a:t>
            </a:r>
            <a:br>
              <a:rPr sz="2000"/>
            </a:b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5" name="Rectangle 3"/>
          <p:cNvSpPr/>
          <p:nvPr/>
        </p:nvSpPr>
        <p:spPr>
          <a:xfrm>
            <a:off x="285840" y="1949400"/>
            <a:ext cx="8358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спешность овладения образовательной программой детьми с ОВЗ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сутствие пропусков занятий без уважительной причин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ложительная динамика психосоматического здоровья и снижение заболеваемости детей с ОВЗ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личие друзей у детей с ОВЗ среди детей группы и одноклассни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активность участия детей в системе дополнительного образова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частие родителей в сопровождении детей с ОВЗ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частие детей и подростков в коллективных видах деятельности и д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428760"/>
            <a:ext cx="815328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Задачи специального образования в отношении интеграции: </a:t>
            </a:r>
            <a:br>
              <a:rPr sz="2800"/>
            </a:b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определение системы показаний для осуществления интеграции ребенка с разным уровнем психофизического развития в общеобразовательные учреждения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разработка содержания и форм специализированной поддержки детей, интегрированных в общеобразовательные учреждения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разработка и апробация вариативных индивидуальных программ воспитания, обучения и развития учащихся с психофизическими нарушениям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в общеобразовательных учреждения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" name="Picture 10" descr="http://im8-tub-ru.yandex.net/i?id=316505157-60-72"/>
          <p:cNvPicPr/>
          <p:nvPr/>
        </p:nvPicPr>
        <p:blipFill>
          <a:blip r:embed="rId1"/>
          <a:stretch/>
        </p:blipFill>
        <p:spPr>
          <a:xfrm>
            <a:off x="7000920" y="4929120"/>
            <a:ext cx="17143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Идеи Л.С. Выготского о воспитании ребенка с нарушением развития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214200" y="1856880"/>
            <a:ext cx="87156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готский писал, что «при всех достоинствах наша специальная школа отличается тем основным недостатком, что она замыкает своего воспитанника – слепого, глухого, умственно отсталого ребенка – в узкий круг школьного коллектива, создает замкнутый мир, в котором все приспособлено к дефекту ребенка, все фокусирует его внимание на своем недостатке и не вводит его в настоящую жизнь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дной из форм оптимального развития умственно отсталого ребенка, по мнению ученого, должен стать коллектив. Подчеркивая превалирующую роль коллектива в процессе развития и воспитания, автор выдвигает требование насыщения коллектива разными по степени интеллектуального недоразвития детьми. По мнению исследователя, в тех случаях, когда коллектив отсталых детей достаточно однороден, это наносит ущерб как нормальным, так и аномальным детям – лишает их возможности развит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356760"/>
            <a:ext cx="8153280" cy="86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Формы интегрированного обучения детей с отклонениями в развитии</a:t>
            </a:r>
            <a:br>
              <a:rPr sz="4000"/>
            </a:b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омбинированное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ученик с отклонениями в развитии способен обучаться в классе здоровых детей, получая при этом систематическую помощь со стороны учителя-дефектолога, логопеда, психолог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частичное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обучающиеся с отклонениями в развитии не способны на равных условиях со здоровыми сверстниками овладевать образовательной программой; в этом случае часть дня они проводят в спецклассах, а часть дня – в обычных классах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ременное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дети, обучающиеся в специальных классах, и учащиеся обычных классов объединяются не реже двух раз в месяц для совместных прогулок, праздников, соревнований, отдельных мероприятий воспитательного значе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олное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1–2 ребенка с отклонениями в развитии вливаются в обычные группы детского сада или классы (дети с ринолалией, слабовидящие или дети с кохлеарным имплантантом); эти дети по уровню психофизического, речевого развития более менее соответствуют возрастной норме и психологически готовы к совместному обучению со здоровыми сверстниками; коррекционную помощь они получают по месту обучения, или ее оказывают родители под контролем специалист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Этапы организации социально-образовательной интеграции: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ериод раннего детств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ериод дошкольного детств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ериод школьного обучения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ериод профессионально-трудовой адаптаци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5" name="Picture 4" descr="http://im5-tub-ru.yandex.net/i?id=7869440-41-72"/>
          <p:cNvPicPr/>
          <p:nvPr/>
        </p:nvPicPr>
        <p:blipFill>
          <a:blip r:embed="rId1"/>
          <a:stretch/>
        </p:blipFill>
        <p:spPr>
          <a:xfrm>
            <a:off x="5072040" y="4000680"/>
            <a:ext cx="340992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Calibri"/>
              </a:rPr>
              <a:t>Этап дошкольного детства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95280" y="1600200"/>
            <a:ext cx="8370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ремя встраивания ребенка с ОВЗ в первую общественную образовательную систему – дошкольное обучение и воспитание. Требования к осуществлению интеграции на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этапе дошкольного детств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язательное наличие индивидуальной коррекционно-развивающей и образовательно-воспитательной программы для ребёнка с теми или иными ограничениям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обходимость создания адекватной возможностям ребёнка охранительно-педагогической и предметно-развивающей сред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личие специальной образовательной помощи, осуществляемой командой сотрудников при ведущей роли педагога-дефектолог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ёткое разделение функционала всех специалистов, вовлечённых в интегрированное дошкольное образовани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учение родителей навыкам стимулирующего общения с собственным ребёнко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сихолого-педагогическое сопровождение нормально развивающихся дошкольников, вовлечённых в интегрированное обучени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f497d"/>
                </a:solidFill>
                <a:latin typeface="Calibri"/>
              </a:rPr>
              <a:t>Группы кратковременного пребывания</a:t>
            </a:r>
            <a:r>
              <a:rPr b="0" lang="ru-RU" sz="40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213840" y="1600200"/>
            <a:ext cx="85518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дна из важных форм интегрированного обучения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в дошкольном возрасте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это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группы кратковременного пребыван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Поскольку в группы принимаются дети с различной структурой дефекта, при организации групповых занятий необходима одновременная, совместная работа 2–3 педагогов, осуществляющих обучение детей разным видам деятельности и обеспечивающих их сопровождение в процессе воспитания и обучения с учетом различий в тяжести имеющихся нарушений. Во время проведения одним из педагогов занятия по развитию той или иной деятельности, другие педагоги выполняют функцию педагогов сопровождения, тем самым помогая детям на занятии и одновременно обучая родителей навыкам взаимодействия с собственными детьми. Для этих целей возможно использование и родителей, прошедших квалифицированное обучение, и специально подготовленных тьюторов, которые соответствуют требованиям, предъявляемым к уровню их профессиональной и личностной готов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 этом важно учитывать, что гибкое сочетание индивидуальных и групповых занятий позволяет ребёнку с ОВЗ выработать разные стратегии поведения в процессе общения и различных видах детской деятель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1f497d"/>
                </a:solidFill>
                <a:latin typeface="Calibri"/>
              </a:rPr>
              <a:t>Период школьного обучения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213840" y="1600200"/>
            <a:ext cx="8551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ля реализации социально-образовательной интеграции в 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период школьного обучения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еобходимо наличие следующих четырёх структурных компонентов [Резникова Е.В., 2007]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бучение в условиях общеобразовательного класса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бучение в условиях класса коррекционно-педагогической поддержк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истема психолого-медико-педагогического сопровождения всех обучающихся в учреждени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азвёрнутая сеть услуг дополнительного образован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09:15:43Z</dcterms:created>
  <dc:creator>Руководитель отдела</dc:creator>
  <dc:description/>
  <dc:language>en-US</dc:language>
  <cp:lastModifiedBy>Галина</cp:lastModifiedBy>
  <dcterms:modified xsi:type="dcterms:W3CDTF">2021-09-14T08:04:44Z</dcterms:modified>
  <cp:revision>16</cp:revision>
  <dc:subject/>
  <dc:title>моделей интеграции детей с ограниченными возможностями здоровья</dc:title>
</cp:coreProperties>
</file>