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679B-BCA9-4CAF-BDCB-5B4A8EF4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3CA-CA65-4FD0-B02A-F18F8E40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2933-BE75-46CC-9433-38C7BA17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3AB-0C96-4BE2-A8D8-F72BAD1E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1298-83A3-4C0B-A0FA-C252DD56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B481-D3F3-4AE4-BEB3-748AE285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A920-E458-4601-A0A7-F1D41D43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E086-64BE-4E2D-B374-CD3A9AB4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E716-7C00-4C07-900D-A201B4F4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6C74-DD54-4E1E-B3C3-7C3651FC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A7BE-980C-42E8-B938-B4D0A8EE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0479-93C0-434B-A70C-8A02EDB7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E605-5DE1-44C3-9921-D5F792C6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8EAD-C35A-497C-8EA1-35897D98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B4D9-4E54-46E6-AF24-FF5BA3D3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F10B-FDBA-4D1F-A42C-9DA109D8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7249-5F85-4130-9D1C-46384D4F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95325-DB9B-49CC-AAD8-6F06978A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5A830-DFDD-4108-B928-1C0A5E82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80F73-8872-4A90-9A3D-6F23B523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21572-D462-4992-8304-35045323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0C3CAC-1F6A-4390-B6A7-83625E5B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7AA-D1CC-495D-8891-C523BA7F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8B6CA-1702-475A-8BE4-7DFE3E53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A58CC-2FBC-46E7-B641-1864E484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0C153-1237-45CF-9D2C-F5F4813D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74976-BBAD-4CBA-B2BA-D8B38134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FEA74-872D-4ABA-96F8-1E1DC969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EF602-A4C7-4BCB-9288-91A9B81F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338A8-30E7-4D5A-BCFA-111A4690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BBAF4F-EB64-4A7A-8504-57495E36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9D2A97-8CC6-4B54-9B65-CD1C1BFC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0C1A7A-CB0F-4BC7-8500-5D103135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DDE9-82A0-4776-A57F-A6443DB6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6100EB-3813-419F-9E40-F7C6E412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CC48C6-50D9-4D01-BB5B-7BA00914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4D0D01-34CF-4742-90CB-98DB8623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6D617E-1F6A-4F0C-BEF5-D73585DC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C821B7-BE69-4BD6-B2B9-36912795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5051E4-60F2-4A29-8532-317293B3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DAADF3-256B-4AC6-BDB7-5E124F57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39EB65-78BA-4A42-8E59-82E1D4E2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F8E4A8-FF7A-414A-9718-2DACB6CD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AF910F-5236-4A01-AFEC-5A013BC9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BDB4-DD01-489B-9740-34174017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3A3B90-05CF-4271-B1FD-21E4815C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05C0F2-39DF-4470-95DB-D76CCBF0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1AF71F-53FB-409E-A065-0505BF97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75F1CC-566E-4F92-A7F8-5EF61BED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CB9BB-9391-4AEE-842D-E1687DDC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2814B-EEBD-4A71-B5A9-3BA3C86D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FDA0C-E07F-4FE3-87E9-9B5A449C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B7A214-FC81-41B9-A969-99DC135E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71CF60-9566-4BF8-B512-88EBE9DD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01A350-5C3D-4B7F-B1C6-57BACEA3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8C0-7D5C-449A-B1A9-9C12F668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431218-E3C4-45EE-BA59-E6196089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A4A5F-B00F-4ADB-8BAC-BD231C02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60288-EA38-4006-8E84-15437AF4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5EE48-5251-4CF1-92E0-EEA78EAB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C656A-6561-4AD4-9A09-7B17AC8E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A09F9-23F8-40BD-A958-64C77915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BC6DE-F659-43CE-BC72-BAA2270B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12DCE-827B-456A-9AB6-38E14403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6CFFD-5680-46DC-A095-B9229FCE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E4B78-D9A8-489E-A4A8-87B42131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485F-D402-4AB8-A3F3-5B0A1FBE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49A47-265B-4B11-9211-548DB44A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45380-24DC-43B5-B7CB-657B8572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CF874-44D7-4E72-90CF-AA4E5E9E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1DFE16-587E-44DF-A93A-F1C4790C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92A3B8-80CB-4A68-9E22-3FB19AE2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E37987-D5D7-4EA9-8D40-4635637D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EFD82A-B36F-404F-BFBF-06228ED0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63052A-1CC8-4401-9DC1-E8F2FF33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1594D9-E5B2-4CBC-A484-514E1E29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3EE148-F96F-494B-99B6-3E0EE94C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E0F-7947-4C0C-B881-6AB68F5C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7D0A54-8E4D-4379-B34A-5A1B6E39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49299B-918E-4691-9CC9-6628CD5A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3F7F3E-EDA5-48CF-A7BA-56FE027B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4812FB-6AC6-4A98-85CD-443C2BC9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2C5DEC-C6C3-4FF9-A398-D5D5F685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49363-9BA0-44C2-9327-6E8B33BA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903EC-A58C-405D-B40A-41703301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894E0-79C5-413A-8257-0F97FFCE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382DA-827C-4F4D-89C0-B374D8B9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A9DA1-9CED-4E93-AF8A-8231AF36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34C3-D6E7-4F51-92E9-A412E8E9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3F143-76D6-4A74-8092-5FD30B82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FD2AB-A6D9-47F7-AF3A-7153D7E8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FA9D4-41AC-4F45-BB23-3CA0E420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9D52B-FD4A-4DCD-BCBC-4B4D21C2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0C9C2-237A-408A-92BC-2FDD1ED1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12A71-552D-4A0F-BF85-83F6253B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A390A-2469-47E5-9D46-5FAC04A5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6D70-970D-4CEC-9D04-E54B7A463F5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DE3A-6D7F-4D2C-9867-CEECCC18CE44}" type="slidenum">
              <a:rPr b="1" lang="ru-RU" sz="14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06FE-7DF3-48F8-9FF6-DCFB2AC84077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800C-D380-496A-8AC3-AF1C82A7071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118A-2370-4822-8875-18145FF2526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870E-E685-4D52-A4AD-163788D70D3B}" type="slidenum">
              <a:rPr b="1" lang="ru-RU" sz="14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A5C9-F3AE-476D-B02A-3E7C540C8A41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C1E7-3F40-478D-BE45-C4A59DA4F742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zalia.ucoz.ru/plakat_2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57240" y="4038480"/>
            <a:ext cx="69818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МОДЕЛИ ИНТЕГРАЦИИ ДЕТЕЙ С ОГРАНИЧЕННЫМИ ВОЗМОЖНОСТЯМИ ЗДОРОВЬЯ</a:t>
            </a:r>
            <a:endParaRPr b="0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ечественная концепция интегрированного обучения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Picture 2" descr="http://azalia.ucoz.ru/plakat_2s.jpg">
            <a:hlinkClick r:id="rId1"/>
          </p:cNvPr>
          <p:cNvPicPr/>
          <p:nvPr/>
        </p:nvPicPr>
        <p:blipFill>
          <a:blip r:embed="rId2"/>
          <a:srcRect l="0" t="0" r="0" b="11654"/>
          <a:stretch/>
        </p:blipFill>
        <p:spPr>
          <a:xfrm>
            <a:off x="500040" y="214200"/>
            <a:ext cx="5076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ети с ОВЗ изучают такие предметы, как изобразительное искусство, ОБЖ, физкультура, музыка, пение и трудовое обучение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в условиях общеобразовательных классов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а предметы по программам для С(К)ОУ соответствующих видов – в условиях классов коррекционно-педагогической поддержки. Обычно это такие предметы, как математика, русский язык или письмо и развитие речи, чтение или чтение и развитие речи, трудовое обучение, ритми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о-медико-педагогическое сопровождение поддерживает индивидуальные учебно-коррекционные маршруты и изучение программ для учеников с ОВЗ в целях обеспечения психологической, педагогической, медицинской, социально-педагогической и логопедической помощи; обеспечивает психологический комфорт и контроль за реализацией досугово-реабилитацион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ной частью социально-образовательной интеграции является развернутая система дополнительного образования. Его направления могут быть достаточно различны, но необходимый минимум эт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культурно-спортивные се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удожественно-эстетические студии и круж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нятия декоративно-прикладным искусство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чно-техническое творче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3840" y="2286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собенности организации интегрированного обучения в начальных классах общеобразовательной школы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4296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ление и отбор учебных планов, образовательных программ и учебно-методических и дидактических комплекс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школьном учебном план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пределен состав учебных предметов в рамках образовательных областей и образовательных компонентов базисного учебного плана, а значит, должна быть отражена специфика образовательной деятельности школы как учреждения, работающего в рамках интегрированного обучения. Методическое обеспечение такого обучения учащихся с психофизическими нарушениями и детей с нормальным развитием объединяет программные, учебно-методические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дактические материа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для общеобразовательной шко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 и для специальн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коррекционного) образовательного учрежде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редством которых выстраиваетс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ебно-воспитательный процес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8" descr="http://im4-tub-ru.yandex.net/i?id=53481445-56-72"/>
          <p:cNvPicPr/>
          <p:nvPr/>
        </p:nvPicPr>
        <p:blipFill>
          <a:blip r:embed="rId1"/>
          <a:stretch/>
        </p:blipFill>
        <p:spPr>
          <a:xfrm>
            <a:off x="5857920" y="385776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рганизации учебно-воспитательного процесса главная трудность для учителя состоит в том, чтобы соотнести индивидуальные особенности ребенка с проблемами в развитии, интегрированного в среду нормально развивающихся сверстников, с выполнением образовательного стандарта, заложенного в специальной коррекционной образовательной программе для учреждений VII или VIII ви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 показывает, что в обучении детей с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держкой психического развит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начальных этапах преобладает работа учителя-дефектолога в условиях класса коррекционно-педагогической поддержки, но постепенно участие учителя-дефектолога сокращается, и дети в большем объеме получают знания на уроках в условиях общеобразовательного клас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бучении же детей с нарушением интеллекта ситуация обратная. На начальных этапах обучения умственно отсталые дети большую часть учебного времени проводят со своими нормально развивающимися сверстниками, но по мере адаптации детей к классу и усложнения образовательной программы увеличивается количество часов обучения в классе коррекционно-педагогической поддержки под руководством учителя-дефектоло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ыбор программ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– основа обучения. Для обучения учащихся с особенностями в развитии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 начальной школе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за основу берутся: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иповые государственные программы для общеобразовательных учрежде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1–4 кл. (Авторские программы Л.В.Занкова, В.В.Истоминой, Д.Б.Эльконина, В.В.Давыдова, Н.Я.Виленкина – Л.Г.Петерсон и типовые – авторы В.Г.Горецкий, В.А.Кирюшкин, Т.Г.Рамзаева, Л.Ф.Климанова, Н.Н.Светловская, О.В.Джежелей, М.И Моро, М.А.Бантова, Г.В.Бельтюкова, С.И.Волкова, С.В.Степанов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VI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задержкой психическ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Е.А.Екжанова, Г.М.Капустина, Ю.А.Костенкова, Т.В.Кузмичева, Е.Б.Новикова, Е.Н.Морсакова, Р.Д.Тригер, Н.А.Цыпина, С.Г.Шевченко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VII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нарушением интеллек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Авторы:В.В.Воронкова, И.В.Коломыткина, Н.М.Барская, С.Ю.Ильина, З.Н. Смирнова, Г.Н.Гусева, А.К.Аксенова, Э.В.Якубовская, А.А.Хилько, В.В.Эк, М.Н.Перова и др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Calibri"/>
              </a:rPr>
              <a:t>Интегрированное календарно-тематическое планирование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85480" y="1599840"/>
            <a:ext cx="86439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 основе обозначенных программ, учебников и учебных пособий составляется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интегрированное календарно-тематическое планирование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по учебным дисциплинам. В составлении календарно-тематического планирования принимают участие учителя начальных классов, учителя-дефектологи. Это объясняется тем, что количество часов по учебным дисциплинам, содержание тем образовательной программы следует распределить для изучения в общеобразовательном классе и в классе коррекционно-педагогической поддержки. Программы образовательных учреждений изучаются учителями и сводятся совместно со специалистами коррекционного образования таким образом в календарно-тематическое планирование, чтобы на одном уроке дети разных уровней развития изучали одну и ту же тему, но информация, получаемая учениками по теме, должна быть адекватна его образовательной программе. Контрольные и творческие работы разрабатываются в соответствии с уровнем развития учащихся и оцениваются согласно требованиям учебной программ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Calibri"/>
              </a:rPr>
              <a:t>Поурочное планирование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урочное 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азируется на учебном плане образовательного учреждения, в котором выделяются инвариантная и вариативная части. Инвариантная часть учебного плана содержит в себе федеральный и национально-региональный компоненты. Федеральный компонент обеспечивает удовлетворение образовательных потребностей в рамках государственного стандарта, гарантирует овладение выпускниками знаниями, умениями, навыками, обеспечивающими возможность продолжения образования. Национально-региональный компонент обеспечивает включение в содержание образования вопросов, связанных со спецификой той или иной области страны (географические, социальные, производственные, экономические, экологические, этнические, культурные и т.п.), которые органично входят в соответствующие образовательные области в рамках часов учебных предм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786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пецифика составления школьных учебных планов для детей с задержкой психического развития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85480" y="1599840"/>
            <a:ext cx="864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ариативная часть учебного плана обеспечена учебно-методическим комплексом в части дополнительных часов, предоставленных на предметы, которые усиливают, расширяют и углубляют знания учащихся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специфику составления школьных учебных планов для детей с задержкой психического развития, интегрированных в среду своих нормально развивающихся сверстников, на начальной ступени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УЧЕБНЫЙ ПЛАН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на 2008–2009 учебный год для детей, обучающихся по программам для учреждений VII вида (1–4 классы)</a:t>
            </a:r>
            <a:br>
              <a:rPr sz="40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57120" y="1905120"/>
          <a:ext cx="8572680" cy="466704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393840"/>
                <a:gridCol w="392040"/>
                <a:gridCol w="414360"/>
                <a:gridCol w="414360"/>
                <a:gridCol w="393480"/>
                <a:gridCol w="393840"/>
                <a:gridCol w="428400"/>
                <a:gridCol w="428760"/>
                <a:gridCol w="471600"/>
                <a:gridCol w="473040"/>
                <a:gridCol w="471600"/>
                <a:gridCol w="411120"/>
              </a:tblGrid>
              <a:tr h="8046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часов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-образовательный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 коррекц.-пед. поддер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56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вариант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rowSpan="9"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образова-тельные к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родоведе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бр. иск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 и п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ая подготов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о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571680" y="1643040"/>
          <a:ext cx="8143560" cy="4429080"/>
        </p:xfrm>
        <a:graphic>
          <a:graphicData uri="http://schemas.openxmlformats.org/drawingml/2006/table">
            <a:tbl>
              <a:tblPr/>
              <a:tblGrid>
                <a:gridCol w="1695240"/>
                <a:gridCol w="382680"/>
                <a:gridCol w="382680"/>
                <a:gridCol w="382320"/>
                <a:gridCol w="403200"/>
                <a:gridCol w="382680"/>
                <a:gridCol w="382680"/>
                <a:gridCol w="382680"/>
                <a:gridCol w="417240"/>
                <a:gridCol w="368280"/>
                <a:gridCol w="460440"/>
                <a:gridCol w="459000"/>
                <a:gridCol w="399960"/>
                <a:gridCol w="1644480"/>
              </a:tblGrid>
              <a:tr h="51444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тив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накомление с окружающ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т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едение в народ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течественная концепция интегрированного обучения строится на трех основных принципах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0004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ранней диагностике и коррекции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обязательной коррекционной помощи каждому ребенку, интегрированному в общеобразовательное пространство вне зависимости от формы интеграции, которую предпочли родители ребенка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продуманном и обоснованном отборе детей для интегрированного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4" descr="http://im7-tub-ru.yandex.net/i?id=19871399-44-72"/>
          <p:cNvPicPr/>
          <p:nvPr/>
        </p:nvPicPr>
        <p:blipFill>
          <a:blip r:embed="rId1"/>
          <a:stretch/>
        </p:blipFill>
        <p:spPr>
          <a:xfrm>
            <a:off x="6786720" y="5143680"/>
            <a:ext cx="21430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0" y="1714680"/>
          <a:ext cx="8786880" cy="4998960"/>
        </p:xfrm>
        <a:graphic>
          <a:graphicData uri="http://schemas.openxmlformats.org/drawingml/2006/table">
            <a:tbl>
              <a:tblPr/>
              <a:tblGrid>
                <a:gridCol w="1743120"/>
                <a:gridCol w="1863720"/>
                <a:gridCol w="412560"/>
                <a:gridCol w="411480"/>
                <a:gridCol w="412560"/>
                <a:gridCol w="434880"/>
                <a:gridCol w="412920"/>
                <a:gridCol w="412560"/>
                <a:gridCol w="412920"/>
                <a:gridCol w="449280"/>
                <a:gridCol w="398520"/>
                <a:gridCol w="495360"/>
                <a:gridCol w="495000"/>
                <a:gridCol w="432000"/>
              </a:tblGrid>
              <a:tr h="4950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5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6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видуальные и групповые коррекционны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8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речи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гопедические занятия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психомоторики и сенсорных процессов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п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терии эффективности интегрированного обучения</a:t>
            </a:r>
            <a:br>
              <a:rPr sz="2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85840" y="194940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пешность овладения образовательной программой детьми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сутствие пропусков занятий без уважительной причи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ожительная динамика психосоматического здоровья и снижение заболеваемости детей с ОВ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личие друзей у детей с ОВЗ среди детей группы и однокласс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ость участия детей в системе дополнительного образ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родителей в сопровождении детей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детей и подростков в коллективных видах деятельност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Задачи специального образования в отношении интеграции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определение системы показаний для осуществления интеграции ребенка с разным уровнем психофизического развития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содержания и форм специализированной поддержки детей, интегрированных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и апробация вариативных индивидуальных программ воспитания, обучения и развития учащихся с психофизическими нарушения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в общеобразовательных учреждения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0" descr="http://im8-tub-ru.yandex.net/i?id=316505157-60-72"/>
          <p:cNvPicPr/>
          <p:nvPr/>
        </p:nvPicPr>
        <p:blipFill>
          <a:blip r:embed="rId1"/>
          <a:stretch/>
        </p:blipFill>
        <p:spPr>
          <a:xfrm>
            <a:off x="7000920" y="492912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Идеи Л.С. Выготского о воспитании ребенка с нарушением развития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14200" y="185688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готский писал, что «при всех достоинствах наша специальная школа отличается тем основным недостатком, что она замыкает своего воспитанника – слепого, глухого, умственно отсталого ребенка – в узкий круг школьного коллектива, создает замкнутый мир, в котором все приспособлено к дефекту ребенка, все фокусирует его внимание на своем недостатке и не вводит его в настоящую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й из форм оптимального развития умственно отсталого ребенка, по мнению ученого, должен стать коллектив. Подчеркивая превалирующую роль коллектива в процессе развития и воспитания, автор выдвигает требование насыщения коллектива разными по степени интеллектуального недоразвития детьми. По мнению исследователя, в тех случаях, когда коллектив отсталых детей достаточно однороден, это наносит ущерб как нормальным, так и аномальным детям – лишает их возможности разви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Формы интегрированного обучения детей с отклонениями в развитии</a:t>
            </a:r>
            <a:br>
              <a:rPr sz="4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мбинирова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ученик с отклонениями в развитии способен обучаться в классе здоровых детей, получая при этом систематическую помощь со стороны учителя-дефектолога, логопеда, псих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астич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обучающиеся с отклонениями в развитии не способны на равных условиях со здоровыми сверстниками овладевать образовательной программой; в этом случае часть дня они проводят в спецклассах, а часть дня – в обычных класс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ме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дети, обучающиеся в специальных классах, и учащиеся обычных классов объединяются не реже двух раз в месяц для совместных прогулок, праздников, соревнований, отдельных мероприятий воспитательного знач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1–2 ребенка с отклонениями в развитии вливаются в обычные группы детского сада или классы (дети с ринолалией, слабовидящие или дети с кохлеарным имплантантом); эти дети по уровню психофизического, речевого развития более менее соответствуют возрастной норме и психологически готовы к совместному обучению со здоровыми сверстниками; коррекционную помощь они получают по месту обучения, или ее оказывают родители под контролем специалис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Этапы организации социально-образовательной интеграции: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ранне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дошкольно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школьного обуче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профессионально-трудовой адапт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4" descr="http://im5-tub-ru.yandex.net/i?id=7869440-41-72"/>
          <p:cNvPicPr/>
          <p:nvPr/>
        </p:nvPicPr>
        <p:blipFill>
          <a:blip r:embed="rId1"/>
          <a:stretch/>
        </p:blipFill>
        <p:spPr>
          <a:xfrm>
            <a:off x="5072040" y="4000680"/>
            <a:ext cx="3409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Этап дошкольного детства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95280" y="1600200"/>
            <a:ext cx="837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я встраивания ребенка с ОВЗ в первую общественную образовательную систему – дошкольное обучение и воспитание. Требования к осуществлению интеграции на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тапе дошкольного детст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язательное наличие индивидуальной коррекционно-развивающей и образовательно-воспитательной программы для ребёнка с теми или иными ограничения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ость создания адекватной возможностям ребёнка охранительно-педагогической и предметно-развивающей сред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специальной образовательной помощи, осуществляемой командой сотрудников при ведущей роли педагога-дефект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ёткое разделение функционала всех специалистов, вовлечённых в интегрированное дошкольное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ение родителей навыкам стимулирующего общения с собственным ребёнк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о-педагогическое сопровождение нормально развивающихся дошкольников, вовлечённых в интегрированное обуч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Calibri"/>
              </a:rPr>
              <a:t>Группы кратковременного пребывания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13840" y="1600200"/>
            <a:ext cx="8551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 из важных форм интегрированного обучени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дошкольном возраст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руппы кратковременного пребы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Поскольку в группы принимаются дети с различной структурой дефекта, при организации групповых занятий необходима одновременная, совместная работа 2–3 педагогов, осуществляющих обучение детей разным видам деятельности и обеспечивающих их сопровождение в процессе воспитания и обучения с учетом различий в тяжести имеющихся нарушений. Во время проведения одним из педагогов занятия по развитию той или иной деятельности, другие педагоги выполняют функцию педагогов сопровождения, тем самым помогая детям на занятии и одновременно обучая родителей навыкам взаимодействия с собственными детьми. Для этих целей возможно использование и родителей, прошедших квалифицированное обучение, и специально подготовленных тьюторов, которые соответствуют требованиям, предъявляемым к уровню их профессиональной и личностной готов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этом важно учитывать, что гибкое сочетание индивидуальных и групповых занятий позволяет ребёнку с ОВЗ выработать разные стратегии поведения в процессе общения и различных видах дет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f497d"/>
                </a:solidFill>
                <a:latin typeface="Calibri"/>
              </a:rPr>
              <a:t>Период школьного обучения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3840" y="1600200"/>
            <a:ext cx="8551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реализации социально-образовательной интеграции в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период школьного обучения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обходимо наличие следующих четырёх структурных компонентов [Резникова Е.В., 2007]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общеобразовательного класс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класса коррекционно-педагогической поддержк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истема психолого-медико-педагогического сопровождения всех обучающихся в учрежден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ёрнутая сеть услуг дополнительного образов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9:15:43Z</dcterms:created>
  <dc:creator>Руководитель отдела</dc:creator>
  <dc:description/>
  <dc:language>en-US</dc:language>
  <cp:lastModifiedBy>Галина</cp:lastModifiedBy>
  <dcterms:modified xsi:type="dcterms:W3CDTF">2021-09-14T08:04:44Z</dcterms:modified>
  <cp:revision>16</cp:revision>
  <dc:subject/>
  <dc:title>моделей интеграции детей с ограниченными возможностями здоровья</dc:title>
</cp:coreProperties>
</file>