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7C99-7895-4126-8714-C6AF3DA0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F687-13DD-4AC4-B4BC-DE818D68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92BF-966A-4A53-AEB0-5BD0E30C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148-16A6-4724-890A-208F1DEB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6217-E384-4C41-89B6-EFCF920B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DB0E-EB4B-4E9B-AC4D-A8B4FC82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576B-D76C-4FBE-A805-CA537A57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EA28-D316-4F1B-8E70-0D695AC9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42DE-7EFF-438B-9B95-D4F1E111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8697-7CAF-4446-A49D-3B93D784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D37E-4C34-4D30-9F60-002043F8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14B3-8F7A-4CBC-9CAF-1BCC687B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63F6-050A-46D9-81B5-512ABEEE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958F-F230-4589-BA88-B888AE8F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8EB5-5C82-4BFB-BBF0-3E548098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4E66-2F8E-476C-A6BC-A12ACFBB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C9D1-05CF-47F7-8508-9DA342D2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782CF-61D7-44E4-BA3D-F5C10DCE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E913E-F3B0-409B-9E76-52120E78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90DB3-FC00-4769-A4E0-3E8EF750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09BDE7-9BCB-4EF4-B11E-31A441C8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105FB-E1DC-46C9-8683-4FCD8C0B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882-E88C-4146-85DB-E0C1F50E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233A7-F110-40DA-A657-21A95867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ED615-ED71-4E2F-AD3D-07DD321B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27FBC-8AC2-42AF-919A-230DD8D4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2429EE-2D0F-4060-815D-5D49A717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F635F-A1B0-48C3-B7DB-7A62624A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F3066-6C7B-4D07-9EF2-4BE412D1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472F8-B2F2-432A-88ED-A2CFE004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80AC5C-F54F-42A3-B9E3-155873E5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100AB3-29F0-4CC1-9BF8-EB0113A1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6F32F7-1EB3-48F1-BD42-BA3F7057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5466-B1C7-4270-82BE-FA8BD61A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D89AB4-90E4-413B-BD5A-94955A7E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2D385E-9837-4BE3-9A9A-808EEF68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210E6E-2D2F-496F-9EBD-5AFF988D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D71E49-DE48-4B6C-9355-67D6048D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BFA732-EA91-46F9-9416-BC9136FB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DDB671-CCC8-4F2C-BA5C-7768BCD2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1B2DE0-E1D8-45E8-AB5E-586779F8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072136-BCC4-4D02-9799-78563BF3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C9D716-2C44-4819-81F4-4B174B25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DE4C71-A5DA-4274-A0D1-7033F71C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E702-8FBB-482D-881C-E1738214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0B3A66-F04E-47C2-AFD6-67641BBE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5E3B7B-C192-4CBE-987D-6782FB85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645917-B504-4E37-ABDB-E083EE25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FCBAE6-7771-4632-BE29-E7B3C802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06C377-2FE3-4EF0-9BFB-8CA14EF9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9E57C-E349-483D-AE75-76EC1B35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BCB5CC-6FA2-493C-9215-12D6B164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18792B-3ED2-4297-82B0-EE090BB0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16D32A-D316-4E9C-A511-E313469A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C562E2-5BF4-42B8-90A0-0A09318E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6EB2-A362-466F-A42F-A9C00328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1ADA6A-AFEE-44E8-845B-921BDB2E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35004-1DFB-4CFD-8ECE-9209E6AB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B30D1-04EE-42D9-BDE5-36CE18D3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7B713-98A4-4DA6-8B62-E19D958B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BFFB9-3A3C-4C66-A904-9D3BDE7F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24657-F7F0-4DC2-8AC9-39D7B41C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9220E-62C2-4B83-AEF0-D6408DA3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209D7-AAE8-4C56-855E-B9618133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13764-F409-423D-B32F-E2CFA475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41FAF-D382-42EB-AFDE-41C60EF3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8089-A8C3-4EE3-970C-7B61527F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7E5F7-CBDC-4B07-9DE3-B98FF7A1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7BBC3-A4B4-45CF-92A3-54BBB767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A1C3F-7BA0-4AEC-B828-49C72699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49A760-D99A-42E0-9996-FCDAE4C3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57D5EA-82AD-498D-9152-C9FE1164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A78A1D-97A0-43DB-B760-CE0A037E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1A7CAA-7A2D-4967-B48D-5016FB24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4E1E5F-BAA0-4137-9C9E-61320ADF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0E59FB-755D-4B6F-AC1A-2DB864DD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847C11-8871-47BA-A1D1-D688A873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076E-3C00-4229-8C86-C81AFBD4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CE3816-14C7-4CAF-A9E9-7EA5C6DB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B5793D-47B7-45E2-AD3F-4D700815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3312BA-D5D0-49CB-B32E-706A1AD6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FC398F-0340-4614-9459-46542CBD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56AC0C-A644-42A2-8191-CAE7BDA3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32CC5-C966-47F2-A6C5-59A749BD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3BABE-E9B7-45C1-B968-3F7036FC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4F59B-2289-491E-9D02-8E01ACC5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FEE23-D193-443D-9AF8-772FD3A0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0DED0-DF22-4858-AE92-A02A74CA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977-17B0-4D1A-ADF1-5992FA72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7D4F2-CEEF-4ECD-8A4B-70A9CD7F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6771F-878A-4BA6-A589-89697E79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725F8-24AB-40B7-BD37-576C993F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6320A-BC90-4914-995F-20C214C9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DB7CB-79E9-4B44-BFA9-09A5D272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B9033-B737-4ED4-9275-1421F780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94964-64E2-4185-821D-9A11CE29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06DF-B40F-442A-83CC-ACB89DF616C0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F24E-6153-4A54-BDEC-AD2A43BDCF4D}" type="slidenum">
              <a:rPr b="1" lang="ru-RU" sz="14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FC6D-EF8A-49EE-9DAC-97744A7A31E2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BB14-7520-478E-9442-98C6BFEC28C0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0EF2-07EC-47A2-95D0-953569B636A9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9A48-4389-46D6-926A-E34EEAC98370}" type="slidenum">
              <a:rPr b="1" lang="ru-RU" sz="14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8870-E679-4BC7-8D33-60A0383BF848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710D-F363-41C3-AA11-BA695682D392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zalia.ucoz.ru/plakat_2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57240" y="4038480"/>
            <a:ext cx="69818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МОДЕЛИ ИНТЕГРАЦИИ ДЕТЕЙ С ОГРАНИЧЕННЫМИ ВОЗМОЖНОСТЯМИ ЗДОРОВЬЯ</a:t>
            </a:r>
            <a:endParaRPr b="0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ечественная концепция интегрированного обучения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2" name="Picture 2" descr="http://azalia.ucoz.ru/plakat_2s.jpg">
            <a:hlinkClick r:id="rId1"/>
          </p:cNvPr>
          <p:cNvPicPr/>
          <p:nvPr/>
        </p:nvPicPr>
        <p:blipFill>
          <a:blip r:embed="rId2"/>
          <a:srcRect l="0" t="0" r="0" b="11654"/>
          <a:stretch/>
        </p:blipFill>
        <p:spPr>
          <a:xfrm>
            <a:off x="500040" y="214200"/>
            <a:ext cx="5076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ети с ОВЗ изучают такие предметы, как изобразительное искусство, ОБЖ, физкультура, музыка, пение и трудовое обучение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в условиях общеобразовательных классов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а предметы по программам для С(К)ОУ соответствующих видов – в условиях классов коррекционно-педагогической поддержки. Обычно это такие предметы, как математика, русский язык или письмо и развитие речи, чтение или чтение и развитие речи, трудовое обучение, ритми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о-медико-педагогическое сопровождение поддерживает индивидуальные учебно-коррекционные маршруты и изучение программ для учеников с ОВЗ в целях обеспечения психологической, педагогической, медицинской, социально-педагогической и логопедической помощи; обеспечивает психологический комфорт и контроль за реализацией досугово-реабилитацион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ной частью социально-образовательной интеграции является развернутая система дополнительного образования. Его направления могут быть достаточно различны, но необходимый минимум эт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культурно-спортивные сек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удожественно-эстетические студии и круж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нятия декоративно-прикладным искусство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чно-техническое творче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3840" y="2286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собенности организации интегрированного обучения в начальных классах общеобразовательной школы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4296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ление и отбор учебных планов, образовательных программ и учебно-методических и дидактических комплекс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школьном учебном план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пределен состав учебных предметов в рамках образовательных областей и образовательных компонентов базисного учебного плана, а значит, должна быть отражена специфика образовательной деятельности школы как учреждения, работающего в рамках интегрированного обучения. Методическое обеспечение такого обучения учащихся с психофизическими нарушениями и детей с нормальным развитием объединяет программные, учебно-методические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дактические материа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для общеобразовательной шко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 и для специальн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коррекционного) образовательного учрежде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редством которых выстраиваетс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ебно-воспитательный процес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8" descr="http://im4-tub-ru.yandex.net/i?id=53481445-56-72"/>
          <p:cNvPicPr/>
          <p:nvPr/>
        </p:nvPicPr>
        <p:blipFill>
          <a:blip r:embed="rId1"/>
          <a:stretch/>
        </p:blipFill>
        <p:spPr>
          <a:xfrm>
            <a:off x="5857920" y="385776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рганизации учебно-воспитательного процесса главная трудность для учителя состоит в том, чтобы соотнести индивидуальные особенности ребенка с проблемами в развитии, интегрированного в среду нормально развивающихся сверстников, с выполнением образовательного стандарта, заложенного в специальной коррекционной образовательной программе для учреждений VII или VIII ви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 показывает, что в обучении детей с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держкой психического развит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начальных этапах преобладает работа учителя-дефектолога в условиях класса коррекционно-педагогической поддержки, но постепенно участие учителя-дефектолога сокращается, и дети в большем объеме получают знания на уроках в условиях общеобразовательного класс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бучении же детей с нарушением интеллекта ситуация обратная. На начальных этапах обучения умственно отсталые дети большую часть учебного времени проводят со своими нормально развивающимися сверстниками, но по мере адаптации детей к классу и усложнения образовательной программы увеличивается количество часов обучения в классе коррекционно-педагогической поддержки под руководством учителя-дефектоло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ыбор программ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– основа обучения. Для обучения учащихся с особенностями в развитии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 начальной школе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за основу берутся: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иповые государственные программы для общеобразовательных учрежден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1–4 кл. (Авторские программы Л.В.Занкова, В.В.Истоминой, Д.Б.Эльконина, В.В.Давыдова, Н.Я.Виленкина – Л.Г.Петерсон и типовые – авторы В.Г.Горецкий, В.А.Кирюшкин, Т.Г.Рамзаева, Л.Ф.Климанова, Н.Н.Светловская, О.В.Джежелей, М.И Моро, М.А.Бантова, Г.В.Бельтюкова, С.И.Волкова, С.В.Степанов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VI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задержкой психическ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Е.А.Екжанова, Г.М.Капустина, Ю.А.Костенкова, Т.В.Кузмичева, Е.Б.Новикова, Е.Н.Морсакова, Р.Д.Тригер, Н.А.Цыпина, С.Г.Шевченко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VII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нарушением интеллек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Авторы:В.В.Воронкова, И.В.Коломыткина, Н.М.Барская, С.Ю.Ильина, З.Н. Смирнова, Г.Н.Гусева, А.К.Аксенова, Э.В.Якубовская, А.А.Хилько, В.В.Эк, М.Н.Перова и др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Calibri"/>
              </a:rPr>
              <a:t>Интегрированное календарно-тематическое планирование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85480" y="1599840"/>
            <a:ext cx="86439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 основе обозначенных программ, учебников и учебных пособий составляется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интегрированное календарно-тематическое планирование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по учебным дисциплинам. В составлении календарно-тематического планирования принимают участие учителя начальных классов, учителя-дефектологи. Это объясняется тем, что количество часов по учебным дисциплинам, содержание тем образовательной программы следует распределить для изучения в общеобразовательном классе и в классе коррекционно-педагогической поддержки. Программы образовательных учреждений изучаются учителями и сводятся совместно со специалистами коррекционного образования таким образом в календарно-тематическое планирование, чтобы на одном уроке дети разных уровней развития изучали одну и ту же тему, но информация, получаемая учениками по теме, должна быть адекватна его образовательной программе. Контрольные и творческие работы разрабатываются в соответствии с уровнем развития учащихся и оцениваются согласно требованиям учебной программ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Calibri"/>
              </a:rPr>
              <a:t>Поурочное планирование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4200" y="1600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урочное 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азируется на учебном плане образовательного учреждения, в котором выделяются инвариантная и вариативная части. Инвариантная часть учебного плана содержит в себе федеральный и национально-региональный компоненты. Федеральный компонент обеспечивает удовлетворение образовательных потребностей в рамках государственного стандарта, гарантирует овладение выпускниками знаниями, умениями, навыками, обеспечивающими возможность продолжения образования. Национально-региональный компонент обеспечивает включение в содержание образования вопросов, связанных со спецификой той или иной области страны (географические, социальные, производственные, экономические, экологические, этнические, культурные и т.п.), которые органично входят в соответствующие образовательные области в рамках часов учебных предм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786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пецифика составления школьных учебных планов для детей с задержкой психического развития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85480" y="1599840"/>
            <a:ext cx="864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ариативная часть учебного плана обеспечена учебно-методическим комплексом в части дополнительных часов, предоставленных на предметы, которые усиливают, расширяют и углубляют знания учащихся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специфику составления школьных учебных планов для детей с задержкой психического развития, интегрированных в среду своих нормально развивающихся сверстников, на начальной ступени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УЧЕБНЫЙ ПЛАН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на 2008–2009 учебный год для детей, обучающихся по программам для учреждений VII вида (1–4 классы)</a:t>
            </a:r>
            <a:br>
              <a:rPr sz="40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57120" y="1905120"/>
          <a:ext cx="8572680" cy="466704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393840"/>
                <a:gridCol w="392040"/>
                <a:gridCol w="414360"/>
                <a:gridCol w="414360"/>
                <a:gridCol w="393480"/>
                <a:gridCol w="393840"/>
                <a:gridCol w="428400"/>
                <a:gridCol w="428760"/>
                <a:gridCol w="471600"/>
                <a:gridCol w="473040"/>
                <a:gridCol w="471600"/>
                <a:gridCol w="411120"/>
              </a:tblGrid>
              <a:tr h="8046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часов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-образовательный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 коррекц.-пед. поддер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56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вариант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 rowSpan="9"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образова-тельные к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родоведе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бр. иск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 и п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ая подготов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о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571680" y="1643040"/>
          <a:ext cx="8143560" cy="4429080"/>
        </p:xfrm>
        <a:graphic>
          <a:graphicData uri="http://schemas.openxmlformats.org/drawingml/2006/table">
            <a:tbl>
              <a:tblPr/>
              <a:tblGrid>
                <a:gridCol w="1695240"/>
                <a:gridCol w="382680"/>
                <a:gridCol w="382680"/>
                <a:gridCol w="382320"/>
                <a:gridCol w="403200"/>
                <a:gridCol w="382680"/>
                <a:gridCol w="382680"/>
                <a:gridCol w="382680"/>
                <a:gridCol w="417240"/>
                <a:gridCol w="368280"/>
                <a:gridCol w="460440"/>
                <a:gridCol w="459000"/>
                <a:gridCol w="399960"/>
                <a:gridCol w="1644480"/>
              </a:tblGrid>
              <a:tr h="51444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тив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накомление с окружающ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т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а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едение в народ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течественная концепция интегрированного обучения строится на трех основных принципах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0004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ранней диагностике и коррекции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обязательной коррекционной помощи каждому ребенку, интегрированному в общеобразовательное пространство вне зависимости от формы интеграции, которую предпочли родители ребенка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продуманном и обоснованном отборе детей для интегрированного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4" descr="http://im7-tub-ru.yandex.net/i?id=19871399-44-72"/>
          <p:cNvPicPr/>
          <p:nvPr/>
        </p:nvPicPr>
        <p:blipFill>
          <a:blip r:embed="rId1"/>
          <a:stretch/>
        </p:blipFill>
        <p:spPr>
          <a:xfrm>
            <a:off x="6786720" y="5143680"/>
            <a:ext cx="21430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0" y="1714680"/>
          <a:ext cx="8786880" cy="4998960"/>
        </p:xfrm>
        <a:graphic>
          <a:graphicData uri="http://schemas.openxmlformats.org/drawingml/2006/table">
            <a:tbl>
              <a:tblPr/>
              <a:tblGrid>
                <a:gridCol w="1743120"/>
                <a:gridCol w="1863720"/>
                <a:gridCol w="412560"/>
                <a:gridCol w="411480"/>
                <a:gridCol w="412560"/>
                <a:gridCol w="434880"/>
                <a:gridCol w="412920"/>
                <a:gridCol w="412560"/>
                <a:gridCol w="412920"/>
                <a:gridCol w="449280"/>
                <a:gridCol w="398520"/>
                <a:gridCol w="495360"/>
                <a:gridCol w="495000"/>
                <a:gridCol w="432000"/>
              </a:tblGrid>
              <a:tr h="4950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5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6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видуальные и групповые коррекционны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8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речи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гопедические занятия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психомоторики и сенсорных процессов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п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терии эффективности интегрированного обучения</a:t>
            </a:r>
            <a:br>
              <a:rPr sz="2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285840" y="194940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пешность овладения образовательной программой детьми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сутствие пропусков занятий без уважительной причи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ожительная динамика психосоматического здоровья и снижение заболеваемости детей с ОВ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личие друзей у детей с ОВЗ среди детей группы и однокласс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ость участия детей в системе дополнительного образо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родителей в сопровождении детей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детей и подростков в коллективных видах деятельности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Задачи специального образования в отношении интеграции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определение системы показаний для осуществления интеграции ребенка с разным уровнем психофизического развития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содержания и форм специализированной поддержки детей, интегрированных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и апробация вариативных индивидуальных программ воспитания, обучения и развития учащихся с психофизическими нарушения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в общеобразовательных учреждения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10" descr="http://im8-tub-ru.yandex.net/i?id=316505157-60-72"/>
          <p:cNvPicPr/>
          <p:nvPr/>
        </p:nvPicPr>
        <p:blipFill>
          <a:blip r:embed="rId1"/>
          <a:stretch/>
        </p:blipFill>
        <p:spPr>
          <a:xfrm>
            <a:off x="7000920" y="492912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Идеи Л.С. Выготского о воспитании ребенка с нарушением развития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14200" y="1856880"/>
            <a:ext cx="8715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готский писал, что «при всех достоинствах наша специальная школа отличается тем основным недостатком, что она замыкает своего воспитанника – слепого, глухого, умственно отсталого ребенка – в узкий круг школьного коллектива, создает замкнутый мир, в котором все приспособлено к дефекту ребенка, все фокусирует его внимание на своем недостатке и не вводит его в настоящую жиз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й из форм оптимального развития умственно отсталого ребенка, по мнению ученого, должен стать коллектив. Подчеркивая превалирующую роль коллектива в процессе развития и воспитания, автор выдвигает требование насыщения коллектива разными по степени интеллектуального недоразвития детьми. По мнению исследователя, в тех случаях, когда коллектив отсталых детей достаточно однороден, это наносит ущерб как нормальным, так и аномальным детям – лишает их возможности развит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Формы интегрированного обучения детей с отклонениями в развитии</a:t>
            </a:r>
            <a:br>
              <a:rPr sz="4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мбинирова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ученик с отклонениями в развитии способен обучаться в классе здоровых детей, получая при этом систематическую помощь со стороны учителя-дефектолога, логопеда, псих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астич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обучающиеся с отклонениями в развитии не способны на равных условиях со здоровыми сверстниками овладевать образовательной программой; в этом случае часть дня они проводят в спецклассах, а часть дня – в обычных класс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ме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дети, обучающиеся в специальных классах, и учащиеся обычных классов объединяются не реже двух раз в месяц для совместных прогулок, праздников, соревнований, отдельных мероприятий воспитательного знач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1–2 ребенка с отклонениями в развитии вливаются в обычные группы детского сада или классы (дети с ринолалией, слабовидящие или дети с кохлеарным имплантантом); эти дети по уровню психофизического, речевого развития более менее соответствуют возрастной норме и психологически готовы к совместному обучению со здоровыми сверстниками; коррекционную помощь они получают по месту обучения, или ее оказывают родители под контролем специалис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Этапы организации социально-образовательной интеграции: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ранне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дошкольно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школьного обуче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профессионально-трудовой адапт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4" descr="http://im5-tub-ru.yandex.net/i?id=7869440-41-72"/>
          <p:cNvPicPr/>
          <p:nvPr/>
        </p:nvPicPr>
        <p:blipFill>
          <a:blip r:embed="rId1"/>
          <a:stretch/>
        </p:blipFill>
        <p:spPr>
          <a:xfrm>
            <a:off x="5072040" y="4000680"/>
            <a:ext cx="3409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Этап дошкольного детства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95280" y="1600200"/>
            <a:ext cx="837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я встраивания ребенка с ОВЗ в первую общественную образовательную систему – дошкольное обучение и воспитание. Требования к осуществлению интеграции на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тапе дошкольного детств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язательное наличие индивидуальной коррекционно-развивающей и образовательно-воспитательной программы для ребёнка с теми или иными ограничения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ость создания адекватной возможностям ребёнка охранительно-педагогической и предметно-развивающей сред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специальной образовательной помощи, осуществляемой командой сотрудников при ведущей роли педагога-дефект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ёткое разделение функционала всех специалистов, вовлечённых в интегрированное дошкольное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ение родителей навыкам стимулирующего общения с собственным ребёнк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о-педагогическое сопровождение нормально развивающихся дошкольников, вовлечённых в интегрированное обуч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Calibri"/>
              </a:rPr>
              <a:t>Группы кратковременного пребывания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13840" y="1600200"/>
            <a:ext cx="8551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 из важных форм интегрированного обучени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дошкольном возраст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руппы кратковременного пребы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Поскольку в группы принимаются дети с различной структурой дефекта, при организации групповых занятий необходима одновременная, совместная работа 2–3 педагогов, осуществляющих обучение детей разным видам деятельности и обеспечивающих их сопровождение в процессе воспитания и обучения с учетом различий в тяжести имеющихся нарушений. Во время проведения одним из педагогов занятия по развитию той или иной деятельности, другие педагоги выполняют функцию педагогов сопровождения, тем самым помогая детям на занятии и одновременно обучая родителей навыкам взаимодействия с собственными детьми. Для этих целей возможно использование и родителей, прошедших квалифицированное обучение, и специально подготовленных тьюторов, которые соответствуют требованиям, предъявляемым к уровню их профессиональной и личностной готов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этом важно учитывать, что гибкое сочетание индивидуальных и групповых занятий позволяет ребёнку с ОВЗ выработать разные стратегии поведения в процессе общения и различных видах дет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f497d"/>
                </a:solidFill>
                <a:latin typeface="Calibri"/>
              </a:rPr>
              <a:t>Период школьного обучения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3840" y="1600200"/>
            <a:ext cx="8551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реализации социально-образовательной интеграции в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период школьного обучения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обходимо наличие следующих четырёх структурных компонентов [Резникова Е.В., 2007]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общеобразовательного класс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класса коррекционно-педагогической поддержк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истема психолого-медико-педагогического сопровождения всех обучающихся в учрежден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вёрнутая сеть услуг дополнительного образов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9:15:43Z</dcterms:created>
  <dc:creator>Руководитель отдела</dc:creator>
  <dc:description/>
  <dc:language>en-US</dc:language>
  <cp:lastModifiedBy>Галина</cp:lastModifiedBy>
  <dcterms:modified xsi:type="dcterms:W3CDTF">2021-09-14T08:04:44Z</dcterms:modified>
  <cp:revision>16</cp:revision>
  <dc:subject/>
  <dc:title>моделей интеграции детей с ограниченными возможностями здоровья</dc:title>
</cp:coreProperties>
</file>